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1.png" ContentType="image/png"/>
  <Override PartName="/ppt/media/image7.jpeg" ContentType="image/jpe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1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799FC-A758-482F-8A06-4B06903BE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827360" y="1827360"/>
            <a:ext cx="9750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827360" y="3976920"/>
            <a:ext cx="9750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69418-7B0E-4754-AD75-8C7FF9595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7360" y="1827360"/>
            <a:ext cx="4757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823440" y="1827360"/>
            <a:ext cx="4757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827360" y="3976920"/>
            <a:ext cx="4757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23440" y="3976920"/>
            <a:ext cx="4757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1C34B-0365-497F-B2E3-FDFF5DA30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827360" y="1827360"/>
            <a:ext cx="3139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123880" y="1827360"/>
            <a:ext cx="3139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8420400" y="1827360"/>
            <a:ext cx="3139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827360" y="3976920"/>
            <a:ext cx="3139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5123880" y="3976920"/>
            <a:ext cx="3139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8420400" y="3976920"/>
            <a:ext cx="3139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47B61-2459-4C73-BC65-CA3A65676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63684-6CCD-4F9C-9E63-F58F2D7F1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827360" y="1827360"/>
            <a:ext cx="9750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6FE66-6231-44FF-9624-88C57B128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827360" y="1827360"/>
            <a:ext cx="975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70087-FB94-4664-B047-F14B52041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827360" y="1827360"/>
            <a:ext cx="4757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823440" y="1827360"/>
            <a:ext cx="4757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0EB10-20B2-407B-B7B9-EAC459204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8F3A2-BED1-4942-8163-3B2E7BF7E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827360" y="301320"/>
            <a:ext cx="9750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4DCCD-419B-449B-87F1-9F98002B4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827360" y="1827360"/>
            <a:ext cx="4757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23440" y="1827360"/>
            <a:ext cx="4757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827360" y="3976920"/>
            <a:ext cx="4757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16AAA-8273-4A66-8CE9-A8FFCD48A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827360" y="1827360"/>
            <a:ext cx="9750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0D333-11B9-40FA-B5A2-41F581777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827360" y="1827360"/>
            <a:ext cx="4757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23440" y="1827360"/>
            <a:ext cx="4757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23440" y="3976920"/>
            <a:ext cx="4757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22B40-269F-4BC9-8D64-CF013564F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827360" y="1827360"/>
            <a:ext cx="4757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23440" y="1827360"/>
            <a:ext cx="4757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827360" y="3976920"/>
            <a:ext cx="9750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99F37-3651-440F-8D5A-F652C3018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827360" y="1827360"/>
            <a:ext cx="9750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827360" y="3976920"/>
            <a:ext cx="9750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84F84-A446-42A9-9631-EF433D00A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827360" y="1827360"/>
            <a:ext cx="4757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6823440" y="1827360"/>
            <a:ext cx="4757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827360" y="3976920"/>
            <a:ext cx="4757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23440" y="3976920"/>
            <a:ext cx="4757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D7B22-FAB2-46F5-829A-0010EFB7B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827360" y="1827360"/>
            <a:ext cx="3139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123880" y="1827360"/>
            <a:ext cx="3139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420400" y="1827360"/>
            <a:ext cx="3139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827360" y="3976920"/>
            <a:ext cx="3139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5123880" y="3976920"/>
            <a:ext cx="3139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8420400" y="3976920"/>
            <a:ext cx="3139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5DD5D-C51E-4629-AE82-56401A34D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2CACC1-18CC-42E3-A498-82283062A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827360" y="1827360"/>
            <a:ext cx="9750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EED0A2-7467-4D40-8927-E18FB199D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827360" y="1827360"/>
            <a:ext cx="975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BF622B-AE27-43F5-9FA1-5CC4D9D13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827360" y="1827360"/>
            <a:ext cx="4757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6823440" y="1827360"/>
            <a:ext cx="4757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BC7323-2D4C-4EB5-A56E-043A82556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07C5B9-A0AB-4916-8D30-3563410E0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827360" y="1827360"/>
            <a:ext cx="975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962E1-B49D-45E1-838B-F866E6E18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1827360" y="301320"/>
            <a:ext cx="9750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A978A6-B03A-41CB-A42D-C7A7B16F7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827360" y="1827360"/>
            <a:ext cx="4757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823440" y="1827360"/>
            <a:ext cx="4757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827360" y="3976920"/>
            <a:ext cx="4757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6DC2D7-7C5D-4846-A0CC-E1F54E62B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827360" y="1827360"/>
            <a:ext cx="4757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6823440" y="1827360"/>
            <a:ext cx="4757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823440" y="3976920"/>
            <a:ext cx="4757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92F9F1-A40A-4DAE-9071-D385AC887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827360" y="1827360"/>
            <a:ext cx="4757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6823440" y="1827360"/>
            <a:ext cx="4757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827360" y="3976920"/>
            <a:ext cx="9750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9BFBBA-F587-40C5-A7D9-15CC9C61C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827360" y="1827360"/>
            <a:ext cx="9750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1827360" y="3976920"/>
            <a:ext cx="9750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6629AC-CC94-41A8-9C50-AD1121E22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827360" y="1827360"/>
            <a:ext cx="4757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23440" y="1827360"/>
            <a:ext cx="4757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1827360" y="3976920"/>
            <a:ext cx="4757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6823440" y="3976920"/>
            <a:ext cx="4757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3F7927-B96F-443B-9560-4C9FC2C5E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827360" y="1827360"/>
            <a:ext cx="3139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123880" y="1827360"/>
            <a:ext cx="3139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420400" y="1827360"/>
            <a:ext cx="3139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1827360" y="3976920"/>
            <a:ext cx="3139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5123880" y="3976920"/>
            <a:ext cx="3139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8420400" y="3976920"/>
            <a:ext cx="3139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D59628-074E-4DFE-B0E1-0A8E0F655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E421F9-AE35-4EBE-BD41-4B1DB5234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827360" y="1827360"/>
            <a:ext cx="9750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BD7F4C-49F4-436D-BC23-2B74DB26B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827360" y="1827360"/>
            <a:ext cx="975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0DFE1F-CBFF-40BD-BE8C-8B01AD1B8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7360" y="1827360"/>
            <a:ext cx="4757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823440" y="1827360"/>
            <a:ext cx="4757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2F4FB-54E3-4549-A03D-23DC3D4E0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827360" y="1827360"/>
            <a:ext cx="4757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823440" y="1827360"/>
            <a:ext cx="4757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6ACA6F-F2BA-4521-86AA-4BD633871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9FEE4A-1F35-40B7-B3F4-C12E510A8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1827360" y="301320"/>
            <a:ext cx="9750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64D807-58F0-4D8A-891A-19D80F107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827360" y="1827360"/>
            <a:ext cx="4757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6823440" y="1827360"/>
            <a:ext cx="4757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1827360" y="3976920"/>
            <a:ext cx="4757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B46166-9429-4472-A6E0-D7A7A54CC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827360" y="1827360"/>
            <a:ext cx="4757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23440" y="1827360"/>
            <a:ext cx="4757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823440" y="3976920"/>
            <a:ext cx="4757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ED6E7D-6C9A-40D6-97B7-C268B1BFC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827360" y="1827360"/>
            <a:ext cx="4757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6823440" y="1827360"/>
            <a:ext cx="4757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1827360" y="3976920"/>
            <a:ext cx="9750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A26F90-D4E2-4C6C-8B5B-789A1ABA4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827360" y="1827360"/>
            <a:ext cx="9750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1827360" y="3976920"/>
            <a:ext cx="9750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70770F-6173-4649-AC62-801ADB157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827360" y="1827360"/>
            <a:ext cx="4757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6823440" y="1827360"/>
            <a:ext cx="4757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1827360" y="3976920"/>
            <a:ext cx="4757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6823440" y="3976920"/>
            <a:ext cx="4757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4DFD20-86A2-4FD3-BD1F-1FD1C1A29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827360" y="1827360"/>
            <a:ext cx="3139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5123880" y="1827360"/>
            <a:ext cx="3139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8420400" y="1827360"/>
            <a:ext cx="3139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1827360" y="3976920"/>
            <a:ext cx="3139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5123880" y="3976920"/>
            <a:ext cx="3139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8420400" y="3976920"/>
            <a:ext cx="3139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DB8E0F-19CB-4595-B8EB-0F9E911B5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07210-3E0B-44EC-B339-83902C84E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827360" y="301320"/>
            <a:ext cx="9750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C5627-F71A-4120-940E-64E44F2F9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827360" y="1827360"/>
            <a:ext cx="4757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823440" y="1827360"/>
            <a:ext cx="4757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827360" y="3976920"/>
            <a:ext cx="4757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8DF16-39AB-4D9A-996F-15B09D928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827360" y="1827360"/>
            <a:ext cx="4757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823440" y="1827360"/>
            <a:ext cx="4757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23440" y="3976920"/>
            <a:ext cx="4757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3C36D-1E79-47F9-ADA1-D2CD46305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827360" y="1827360"/>
            <a:ext cx="4757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23440" y="1827360"/>
            <a:ext cx="4757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827360" y="3976920"/>
            <a:ext cx="9750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F5FA3-E3EE-4CA3-BD04-29CEF5A26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4273560" y="0"/>
            <a:ext cx="15900120" cy="3809880"/>
            <a:chOff x="-4273560" y="0"/>
            <a:chExt cx="15900120" cy="3809880"/>
          </a:xfrm>
        </p:grpSpPr>
        <p:sp>
          <p:nvSpPr>
            <p:cNvPr id="1" name="AutoShape 3"/>
            <p:cNvSpPr/>
            <p:nvPr/>
          </p:nvSpPr>
          <p:spPr>
            <a:xfrm>
              <a:off x="-4273560" y="685800"/>
              <a:ext cx="548604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50296" y="5746"/>
                  </a:moveTo>
                  <a:cubicBezTo>
                    <a:pt x="58882" y="11730"/>
                    <a:pt x="64000" y="21534"/>
                    <a:pt x="64000" y="32000"/>
                  </a:cubicBezTo>
                  <a:cubicBezTo>
                    <a:pt x="64000" y="42465"/>
                    <a:pt x="58882" y="52269"/>
                    <a:pt x="50296" y="58253"/>
                  </a:cubicBezTo>
                  <a:cubicBezTo>
                    <a:pt x="50296" y="58253"/>
                    <a:pt x="50296" y="58253"/>
                    <a:pt x="50295" y="58253"/>
                  </a:cubicBezTo>
                  <a:lnTo>
                    <a:pt x="50296" y="58254"/>
                  </a:lnTo>
                  <a:lnTo>
                    <a:pt x="50296" y="5746"/>
                  </a:lnTo>
                  <a:lnTo>
                    <a:pt x="50295" y="5746"/>
                  </a:lnTo>
                  <a:cubicBezTo>
                    <a:pt x="50296" y="5746"/>
                    <a:pt x="50296" y="5746"/>
                    <a:pt x="50296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3189600" y="0"/>
              <a:ext cx="412488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50077" y="5595"/>
                  </a:moveTo>
                  <a:cubicBezTo>
                    <a:pt x="58790" y="11560"/>
                    <a:pt x="64000" y="21440"/>
                    <a:pt x="64000" y="32000"/>
                  </a:cubicBezTo>
                  <a:cubicBezTo>
                    <a:pt x="64000" y="42559"/>
                    <a:pt x="58790" y="52439"/>
                    <a:pt x="50077" y="58404"/>
                  </a:cubicBezTo>
                  <a:cubicBezTo>
                    <a:pt x="50077" y="58404"/>
                    <a:pt x="50077" y="58404"/>
                    <a:pt x="50076" y="58404"/>
                  </a:cubicBezTo>
                  <a:lnTo>
                    <a:pt x="50077" y="58405"/>
                  </a:lnTo>
                  <a:lnTo>
                    <a:pt x="50077" y="5595"/>
                  </a:lnTo>
                  <a:lnTo>
                    <a:pt x="50076" y="5595"/>
                  </a:lnTo>
                  <a:cubicBezTo>
                    <a:pt x="50077" y="5595"/>
                    <a:pt x="50077" y="5595"/>
                    <a:pt x="50077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873080" y="1523880"/>
              <a:ext cx="9753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827360" y="1827360"/>
            <a:ext cx="975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09120" y="6248520"/>
            <a:ext cx="284508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4165200" y="6248520"/>
            <a:ext cx="3861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73756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08126-9619-4826-A7A7-4DBC7D60D5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" name="Picture 12" descr="透明标PPT用"/>
          <p:cNvPicPr/>
          <p:nvPr/>
        </p:nvPicPr>
        <p:blipFill>
          <a:blip r:embed="rId2"/>
          <a:stretch/>
        </p:blipFill>
        <p:spPr>
          <a:xfrm>
            <a:off x="6431040" y="5622840"/>
            <a:ext cx="5761080" cy="1262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-4273560" y="0"/>
            <a:ext cx="15900120" cy="3809880"/>
            <a:chOff x="-4273560" y="0"/>
            <a:chExt cx="15900120" cy="3809880"/>
          </a:xfrm>
        </p:grpSpPr>
        <p:sp>
          <p:nvSpPr>
            <p:cNvPr id="47" name="AutoShape 3"/>
            <p:cNvSpPr/>
            <p:nvPr/>
          </p:nvSpPr>
          <p:spPr>
            <a:xfrm>
              <a:off x="-4273560" y="685800"/>
              <a:ext cx="548604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50296" y="5746"/>
                  </a:moveTo>
                  <a:cubicBezTo>
                    <a:pt x="58882" y="11730"/>
                    <a:pt x="64000" y="21534"/>
                    <a:pt x="64000" y="32000"/>
                  </a:cubicBezTo>
                  <a:cubicBezTo>
                    <a:pt x="64000" y="42465"/>
                    <a:pt x="58882" y="52269"/>
                    <a:pt x="50296" y="58253"/>
                  </a:cubicBezTo>
                  <a:cubicBezTo>
                    <a:pt x="50296" y="58253"/>
                    <a:pt x="50296" y="58253"/>
                    <a:pt x="50295" y="58253"/>
                  </a:cubicBezTo>
                  <a:lnTo>
                    <a:pt x="50296" y="58254"/>
                  </a:lnTo>
                  <a:lnTo>
                    <a:pt x="50296" y="5746"/>
                  </a:lnTo>
                  <a:lnTo>
                    <a:pt x="50295" y="5746"/>
                  </a:lnTo>
                  <a:cubicBezTo>
                    <a:pt x="50296" y="5746"/>
                    <a:pt x="50296" y="5746"/>
                    <a:pt x="50296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4"/>
            <p:cNvSpPr/>
            <p:nvPr/>
          </p:nvSpPr>
          <p:spPr>
            <a:xfrm>
              <a:off x="-3189600" y="0"/>
              <a:ext cx="412488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50077" y="5595"/>
                  </a:moveTo>
                  <a:cubicBezTo>
                    <a:pt x="58790" y="11560"/>
                    <a:pt x="64000" y="21440"/>
                    <a:pt x="64000" y="32000"/>
                  </a:cubicBezTo>
                  <a:cubicBezTo>
                    <a:pt x="64000" y="42559"/>
                    <a:pt x="58790" y="52439"/>
                    <a:pt x="50077" y="58404"/>
                  </a:cubicBezTo>
                  <a:cubicBezTo>
                    <a:pt x="50077" y="58404"/>
                    <a:pt x="50077" y="58404"/>
                    <a:pt x="50076" y="58404"/>
                  </a:cubicBezTo>
                  <a:lnTo>
                    <a:pt x="50077" y="58405"/>
                  </a:lnTo>
                  <a:lnTo>
                    <a:pt x="50077" y="5595"/>
                  </a:lnTo>
                  <a:lnTo>
                    <a:pt x="50076" y="5595"/>
                  </a:lnTo>
                  <a:cubicBezTo>
                    <a:pt x="50077" y="5595"/>
                    <a:pt x="50077" y="5595"/>
                    <a:pt x="50077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9" name="Line 5"/>
            <p:cNvSpPr/>
            <p:nvPr/>
          </p:nvSpPr>
          <p:spPr>
            <a:xfrm>
              <a:off x="1873080" y="1523880"/>
              <a:ext cx="97534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1827360" y="1827360"/>
            <a:ext cx="975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609120" y="6248520"/>
            <a:ext cx="284508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4165200" y="6248520"/>
            <a:ext cx="3861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873756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4192E-EAD3-4D82-A8B0-60E13EC37B3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12" descr="透明标PPT用"/>
          <p:cNvPicPr/>
          <p:nvPr/>
        </p:nvPicPr>
        <p:blipFill>
          <a:blip r:embed="rId2"/>
          <a:stretch/>
        </p:blipFill>
        <p:spPr>
          <a:xfrm>
            <a:off x="6431040" y="5622840"/>
            <a:ext cx="5761080" cy="1262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Group 2"/>
          <p:cNvGrpSpPr/>
          <p:nvPr/>
        </p:nvGrpSpPr>
        <p:grpSpPr>
          <a:xfrm>
            <a:off x="-4297320" y="304920"/>
            <a:ext cx="15878880" cy="4724280"/>
            <a:chOff x="-4297320" y="304920"/>
            <a:chExt cx="15878880" cy="4724280"/>
          </a:xfrm>
        </p:grpSpPr>
        <p:sp>
          <p:nvSpPr>
            <p:cNvPr id="93" name="Line 3"/>
            <p:cNvSpPr/>
            <p:nvPr/>
          </p:nvSpPr>
          <p:spPr>
            <a:xfrm>
              <a:off x="1929960" y="2514600"/>
              <a:ext cx="9651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4" name="AutoShape 4"/>
            <p:cNvSpPr/>
            <p:nvPr/>
          </p:nvSpPr>
          <p:spPr>
            <a:xfrm>
              <a:off x="-3353040" y="1371600"/>
              <a:ext cx="487656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44083" y="2368"/>
                  </a:moveTo>
                  <a:cubicBezTo>
                    <a:pt x="56127" y="7280"/>
                    <a:pt x="64000" y="18993"/>
                    <a:pt x="64000" y="32000"/>
                  </a:cubicBezTo>
                  <a:cubicBezTo>
                    <a:pt x="64000" y="45006"/>
                    <a:pt x="56127" y="56719"/>
                    <a:pt x="44083" y="61631"/>
                  </a:cubicBezTo>
                  <a:cubicBezTo>
                    <a:pt x="44082" y="61631"/>
                    <a:pt x="44082" y="61631"/>
                    <a:pt x="44082" y="61631"/>
                  </a:cubicBezTo>
                  <a:lnTo>
                    <a:pt x="44083" y="61632"/>
                  </a:lnTo>
                  <a:lnTo>
                    <a:pt x="44083" y="2368"/>
                  </a:lnTo>
                  <a:lnTo>
                    <a:pt x="44082" y="2368"/>
                  </a:lnTo>
                  <a:cubicBezTo>
                    <a:pt x="44082" y="2368"/>
                    <a:pt x="44082" y="2368"/>
                    <a:pt x="4408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5" name="AutoShape 5"/>
            <p:cNvSpPr/>
            <p:nvPr/>
          </p:nvSpPr>
          <p:spPr>
            <a:xfrm>
              <a:off x="-4297320" y="304920"/>
              <a:ext cx="538488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50994" y="6246"/>
                  </a:moveTo>
                  <a:cubicBezTo>
                    <a:pt x="59172" y="12279"/>
                    <a:pt x="64000" y="21837"/>
                    <a:pt x="64000" y="32000"/>
                  </a:cubicBezTo>
                  <a:cubicBezTo>
                    <a:pt x="64000" y="42162"/>
                    <a:pt x="59172" y="51720"/>
                    <a:pt x="50994" y="57753"/>
                  </a:cubicBezTo>
                  <a:cubicBezTo>
                    <a:pt x="50993" y="57753"/>
                    <a:pt x="50993" y="57753"/>
                    <a:pt x="50993" y="57753"/>
                  </a:cubicBezTo>
                  <a:lnTo>
                    <a:pt x="50994" y="57754"/>
                  </a:lnTo>
                  <a:lnTo>
                    <a:pt x="50994" y="6246"/>
                  </a:lnTo>
                  <a:lnTo>
                    <a:pt x="50993" y="6246"/>
                  </a:lnTo>
                  <a:cubicBezTo>
                    <a:pt x="50993" y="6246"/>
                    <a:pt x="50993" y="6246"/>
                    <a:pt x="50994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96" name="Picture 12" descr="透明标PPT用"/>
          <p:cNvPicPr/>
          <p:nvPr/>
        </p:nvPicPr>
        <p:blipFill>
          <a:blip r:embed="rId2"/>
          <a:stretch/>
        </p:blipFill>
        <p:spPr>
          <a:xfrm>
            <a:off x="6431040" y="5622840"/>
            <a:ext cx="5761080" cy="126216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1827360" y="1827360"/>
            <a:ext cx="975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7"/>
          </p:nvPr>
        </p:nvSpPr>
        <p:spPr>
          <a:xfrm>
            <a:off x="609120" y="6248520"/>
            <a:ext cx="284508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ftr" idx="8"/>
          </p:nvPr>
        </p:nvSpPr>
        <p:spPr>
          <a:xfrm>
            <a:off x="4165200" y="6248520"/>
            <a:ext cx="3861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sldNum" idx="9"/>
          </p:nvPr>
        </p:nvSpPr>
        <p:spPr>
          <a:xfrm>
            <a:off x="873756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E9581-2932-4F24-9C21-166F320D89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Group 2"/>
          <p:cNvGrpSpPr/>
          <p:nvPr/>
        </p:nvGrpSpPr>
        <p:grpSpPr>
          <a:xfrm>
            <a:off x="-4297320" y="304920"/>
            <a:ext cx="15878880" cy="4724280"/>
            <a:chOff x="-4297320" y="304920"/>
            <a:chExt cx="15878880" cy="4724280"/>
          </a:xfrm>
        </p:grpSpPr>
        <p:sp>
          <p:nvSpPr>
            <p:cNvPr id="139" name="Line 3"/>
            <p:cNvSpPr/>
            <p:nvPr/>
          </p:nvSpPr>
          <p:spPr>
            <a:xfrm>
              <a:off x="1929960" y="2514600"/>
              <a:ext cx="96516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0" name="AutoShape 4"/>
            <p:cNvSpPr/>
            <p:nvPr/>
          </p:nvSpPr>
          <p:spPr>
            <a:xfrm>
              <a:off x="-3353040" y="1371600"/>
              <a:ext cx="487656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44083" y="2368"/>
                  </a:moveTo>
                  <a:cubicBezTo>
                    <a:pt x="56127" y="7280"/>
                    <a:pt x="64000" y="18993"/>
                    <a:pt x="64000" y="32000"/>
                  </a:cubicBezTo>
                  <a:cubicBezTo>
                    <a:pt x="64000" y="45006"/>
                    <a:pt x="56127" y="56719"/>
                    <a:pt x="44083" y="61631"/>
                  </a:cubicBezTo>
                  <a:cubicBezTo>
                    <a:pt x="44082" y="61631"/>
                    <a:pt x="44082" y="61631"/>
                    <a:pt x="44082" y="61631"/>
                  </a:cubicBezTo>
                  <a:lnTo>
                    <a:pt x="44083" y="61632"/>
                  </a:lnTo>
                  <a:lnTo>
                    <a:pt x="44083" y="2368"/>
                  </a:lnTo>
                  <a:lnTo>
                    <a:pt x="44082" y="2368"/>
                  </a:lnTo>
                  <a:cubicBezTo>
                    <a:pt x="44082" y="2368"/>
                    <a:pt x="44082" y="2368"/>
                    <a:pt x="4408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1" name="AutoShape 5"/>
            <p:cNvSpPr/>
            <p:nvPr/>
          </p:nvSpPr>
          <p:spPr>
            <a:xfrm>
              <a:off x="-4297320" y="304920"/>
              <a:ext cx="538488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50994" y="6246"/>
                  </a:moveTo>
                  <a:cubicBezTo>
                    <a:pt x="59172" y="12279"/>
                    <a:pt x="64000" y="21837"/>
                    <a:pt x="64000" y="32000"/>
                  </a:cubicBezTo>
                  <a:cubicBezTo>
                    <a:pt x="64000" y="42162"/>
                    <a:pt x="59172" y="51720"/>
                    <a:pt x="50994" y="57753"/>
                  </a:cubicBezTo>
                  <a:cubicBezTo>
                    <a:pt x="50993" y="57753"/>
                    <a:pt x="50993" y="57753"/>
                    <a:pt x="50993" y="57753"/>
                  </a:cubicBezTo>
                  <a:lnTo>
                    <a:pt x="50994" y="57754"/>
                  </a:lnTo>
                  <a:lnTo>
                    <a:pt x="50994" y="6246"/>
                  </a:lnTo>
                  <a:lnTo>
                    <a:pt x="50993" y="6246"/>
                  </a:lnTo>
                  <a:cubicBezTo>
                    <a:pt x="50993" y="6246"/>
                    <a:pt x="50993" y="6246"/>
                    <a:pt x="50994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142" name="Picture 12" descr="透明标PPT用"/>
          <p:cNvPicPr/>
          <p:nvPr/>
        </p:nvPicPr>
        <p:blipFill>
          <a:blip r:embed="rId2"/>
          <a:stretch/>
        </p:blipFill>
        <p:spPr>
          <a:xfrm>
            <a:off x="6431040" y="5622840"/>
            <a:ext cx="5761080" cy="126216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1827360" y="1827360"/>
            <a:ext cx="975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dt" idx="10"/>
          </p:nvPr>
        </p:nvSpPr>
        <p:spPr>
          <a:xfrm>
            <a:off x="609120" y="6248520"/>
            <a:ext cx="284508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ftr" idx="11"/>
          </p:nvPr>
        </p:nvSpPr>
        <p:spPr>
          <a:xfrm>
            <a:off x="4165200" y="6248520"/>
            <a:ext cx="3861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sldNum" idx="12"/>
          </p:nvPr>
        </p:nvSpPr>
        <p:spPr>
          <a:xfrm>
            <a:off x="873756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BBB6D-6DB0-447C-9145-EC3F9273F69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964960" y="1315800"/>
            <a:ext cx="7239240" cy="1104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6699"/>
                </a:solidFill>
                <a:latin typeface="Arial"/>
              </a:rPr>
              <a:t>商务翻译实务</a:t>
            </a:r>
            <a:endParaRPr b="0" lang="en-US" sz="5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5" name="Rectangle 4"/>
          <p:cNvSpPr/>
          <p:nvPr/>
        </p:nvSpPr>
        <p:spPr>
          <a:xfrm>
            <a:off x="0" y="0"/>
            <a:ext cx="446400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Rectangle 5"/>
          <p:cNvSpPr/>
          <p:nvPr/>
        </p:nvSpPr>
        <p:spPr>
          <a:xfrm>
            <a:off x="2855880" y="4221000"/>
            <a:ext cx="7238880" cy="11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Rectangle 3"/>
          <p:cNvSpPr/>
          <p:nvPr/>
        </p:nvSpPr>
        <p:spPr>
          <a:xfrm>
            <a:off x="4943520" y="3068640"/>
            <a:ext cx="345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66"/>
                </a:solidFill>
                <a:latin typeface="Arial"/>
                <a:ea typeface="宋体"/>
              </a:rPr>
              <a:t>袁 洪   王济华 主    编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66"/>
                </a:solidFill>
                <a:latin typeface="Arial"/>
                <a:ea typeface="宋体"/>
              </a:rPr>
              <a:t>钱立武 赵继荣 副主编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2003040" y="836640"/>
            <a:ext cx="9534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设计个性化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虽然名片包含的内容基本类似，但名片的设计却千差万别。有些设计精美的名片堪称艺术品，让人赏心悦目，给人以美的享受。有些企业给员工设计的名片图文并茂，别具匠心，体现出企业的文化底蕴，本身就是对企业最好的宣传。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6666"/>
                </a:solidFill>
                <a:latin typeface="Arial"/>
              </a:rPr>
              <a:t>中西名片的差异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882800" y="1844640"/>
            <a:ext cx="9758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名片反映着文化，不同文化背景的人，其名片也有不同的特色。欧美人士的名片中名在前，姓在后，有些还有中间名；而中国人的名片姓在前，名在后，没有中间名，这是欧美国家人名与中国人名的重要区别。欧美国家重实际轻名份，因此他们的名片比较简单，通常是姓名加上一两个实际职务，然后就是地址和联系方式了。（项红梅，何小群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07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中国人的名片相对复杂。常言“名不正则言不顺”，我们习惯把所有的头衔、职务都写上去，甚至包含过去曾担任的职务以及享受的待遇。有些人头衔一大堆，让人眼花缭乱，不知道他哪个头衔更重要。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§ PART TWO </a:t>
            </a:r>
            <a:r>
              <a:rPr b="1" lang="zh-CN" sz="3600" spc="-1" strike="noStrike">
                <a:solidFill>
                  <a:srgbClr val="006666"/>
                </a:solidFill>
                <a:latin typeface="Arial"/>
              </a:rPr>
              <a:t>热身练习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4" name="Text Box 4"/>
          <p:cNvSpPr/>
          <p:nvPr/>
        </p:nvSpPr>
        <p:spPr>
          <a:xfrm>
            <a:off x="2021040" y="1700280"/>
            <a:ext cx="5113080" cy="10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sk I  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请你将课前收集的十张名片翻译成中文或英文，如果你的名片已经是中英对照的，请在自行翻译后与之比较并讨论翻译时应注意哪些事项？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5" name="Picture 7" descr="问号1"/>
          <p:cNvPicPr/>
          <p:nvPr/>
        </p:nvPicPr>
        <p:blipFill>
          <a:blip r:embed="rId1"/>
          <a:stretch/>
        </p:blipFill>
        <p:spPr>
          <a:xfrm>
            <a:off x="4151160" y="3645000"/>
            <a:ext cx="1162080" cy="158436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4" descr="名片2"/>
          <p:cNvPicPr/>
          <p:nvPr/>
        </p:nvPicPr>
        <p:blipFill>
          <a:blip r:embed="rId2"/>
          <a:stretch/>
        </p:blipFill>
        <p:spPr>
          <a:xfrm>
            <a:off x="7391520" y="620640"/>
            <a:ext cx="3371760" cy="504360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Task II </a:t>
            </a:r>
            <a:r>
              <a:rPr b="0" lang="zh-CN" sz="2800" spc="-1" strike="noStrike">
                <a:solidFill>
                  <a:srgbClr val="006666"/>
                </a:solidFill>
                <a:latin typeface="Arial"/>
              </a:rPr>
              <a:t>请为下列人名选择合适的翻译，并总结翻译人名的规则。</a:t>
            </a:r>
            <a:r>
              <a:rPr b="0" lang="zh-CN" sz="3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1716120" y="1700280"/>
            <a:ext cx="977112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张大民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 ZHANG DA MIN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 Zhangdamin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 Zhangda Min  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. Zhang Dami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解析）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中文人名翻译成英文的基本要求是姓与名的首字母分别大写，姓与名之间要隔一个空格。综合考虑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是唯一满足以上要求的选项。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 txBox="1"/>
          <p:nvPr/>
        </p:nvSpPr>
        <p:spPr>
          <a:xfrm>
            <a:off x="1814400" y="1609200"/>
            <a:ext cx="10018800" cy="491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李宝安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 LI baoan 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. Li Bao’a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. Li Bao An       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. Baoan L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解析）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当姓名中出现元音字母开头的拼音时，要在元音字母前加上一撇，以避免读者产生歧义。这里的“安”字就是元音字母开头的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”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，故前面要加上一撇，写成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o’an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randomBar dir="vert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5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500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" dur="500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500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00"/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500"/>
                                        <p:tgtEl>
                                          <p:spTgt spid="2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1666800" y="1557000"/>
            <a:ext cx="9918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牛三斤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 Niu Sanjin      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. Niu, sanji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. Cow Three Kilo  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. Niu Sanj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解析）一般来说，人名采取音译法，而不用意译法。所以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w Three Kilo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也是错误的翻译。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randomBar dir="vert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00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500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00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1561680" y="1773360"/>
            <a:ext cx="10107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 M. A. K. Hallida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哈里德      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韩礼德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马可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哈里代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. M.A.K.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韩李德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解析）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翻译人名要遵循“名从主人” 的原则。对于已经有固定中文名的外国人，我们就采用他的中文名。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. A. K. Halliday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是著名的语言学家，本身的中文名就叫韩礼德。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1851120" y="1628280"/>
            <a:ext cx="988992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. Bill Gat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比尔盖茨    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比尔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改瓷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.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比尔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盖茨  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.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碧儿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盖丝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解析）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Gate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作为名人，早就有固定的中文译名。另外，翻译人名时要注意性别区分，将一个男子翻译成碧儿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盖丝显然是不合适的。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randomBar dir="vert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" dur="500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500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" dur="500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" dur="500"/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500"/>
                                        <p:tgtEl>
                                          <p:spTgt spid="2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1827000" y="1827360"/>
            <a:ext cx="97520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1. Room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A. </a:t>
            </a:r>
            <a:r>
              <a:rPr b="0" lang="zh-CN" sz="2100" spc="-1" strike="noStrike">
                <a:solidFill>
                  <a:srgbClr val="000000"/>
                </a:solidFill>
                <a:latin typeface="Times New Roman"/>
              </a:rPr>
              <a:t>单元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2. Unit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B. </a:t>
            </a:r>
            <a:r>
              <a:rPr b="0" lang="zh-CN" sz="2100" spc="-1" strike="noStrike">
                <a:solidFill>
                  <a:srgbClr val="000000"/>
                </a:solidFill>
                <a:latin typeface="Times New Roman"/>
              </a:rPr>
              <a:t>省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3. Building No.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C. </a:t>
            </a:r>
            <a:r>
              <a:rPr b="0" lang="zh-CN" sz="2100" spc="-1" strike="noStrike">
                <a:solidFill>
                  <a:srgbClr val="000000"/>
                </a:solidFill>
                <a:latin typeface="Times New Roman"/>
              </a:rPr>
              <a:t>路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4. Street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D. </a:t>
            </a:r>
            <a:r>
              <a:rPr b="0" lang="zh-CN" sz="2100" spc="-1" strike="noStrike">
                <a:solidFill>
                  <a:srgbClr val="000000"/>
                </a:solidFill>
                <a:latin typeface="Times New Roman"/>
              </a:rPr>
              <a:t>区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5. Road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E. </a:t>
            </a:r>
            <a:r>
              <a:rPr b="0" lang="zh-CN" sz="2100" spc="-1" strike="noStrike">
                <a:solidFill>
                  <a:srgbClr val="000000"/>
                </a:solidFill>
                <a:latin typeface="Times New Roman"/>
              </a:rPr>
              <a:t>县                     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6. District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F. </a:t>
            </a:r>
            <a:r>
              <a:rPr b="0" lang="zh-CN" sz="2100" spc="-1" strike="noStrike">
                <a:solidFill>
                  <a:srgbClr val="000000"/>
                </a:solidFill>
                <a:latin typeface="Times New Roman"/>
              </a:rPr>
              <a:t>街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7. County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G. </a:t>
            </a:r>
            <a:r>
              <a:rPr b="0" lang="zh-CN" sz="2100" spc="-1" strike="noStrike">
                <a:solidFill>
                  <a:srgbClr val="000000"/>
                </a:solidFill>
                <a:latin typeface="Times New Roman"/>
              </a:rPr>
              <a:t>楼房号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8. Municipality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H. </a:t>
            </a:r>
            <a:r>
              <a:rPr b="0" lang="zh-CN" sz="2100" spc="-1" strike="noStrike">
                <a:solidFill>
                  <a:srgbClr val="000000"/>
                </a:solidFill>
                <a:latin typeface="Times New Roman"/>
              </a:rPr>
              <a:t>镇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9. Town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I. </a:t>
            </a:r>
            <a:r>
              <a:rPr b="0" lang="zh-CN" sz="2100" spc="-1" strike="noStrike">
                <a:solidFill>
                  <a:srgbClr val="000000"/>
                </a:solidFill>
                <a:latin typeface="Times New Roman"/>
              </a:rPr>
              <a:t>直辖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10. City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J. </a:t>
            </a:r>
            <a:r>
              <a:rPr b="0" lang="zh-CN" sz="2100" spc="-1" strike="noStrike">
                <a:solidFill>
                  <a:srgbClr val="000000"/>
                </a:solidFill>
                <a:latin typeface="Times New Roman"/>
              </a:rPr>
              <a:t>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11. Province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K. </a:t>
            </a:r>
            <a:r>
              <a:rPr b="0" lang="zh-CN" sz="2100" spc="-1" strike="noStrike">
                <a:solidFill>
                  <a:srgbClr val="000000"/>
                </a:solidFill>
                <a:latin typeface="Times New Roman"/>
              </a:rPr>
              <a:t>室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12.Autonomous Region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L. </a:t>
            </a:r>
            <a:r>
              <a:rPr b="0" lang="zh-CN" sz="2100" spc="-1" strike="noStrike">
                <a:solidFill>
                  <a:srgbClr val="000000"/>
                </a:solidFill>
                <a:latin typeface="Times New Roman"/>
              </a:rPr>
              <a:t>自治区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ask III</a:t>
            </a:r>
            <a:r>
              <a:rPr b="1" lang="zh-CN" sz="3600" spc="-1" strike="noStrike">
                <a:solidFill>
                  <a:srgbClr val="006666"/>
                </a:solidFill>
                <a:latin typeface="Arial"/>
              </a:rPr>
              <a:t>　中英地名搭配练习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§ PART THREE</a:t>
            </a:r>
            <a:r>
              <a:rPr b="0" lang="zh-CN" sz="4000" spc="-1" strike="noStrike">
                <a:solidFill>
                  <a:srgbClr val="006666"/>
                </a:solidFill>
                <a:latin typeface="Arial"/>
              </a:rPr>
              <a:t>名片翻译技巧 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1992240" y="2708280"/>
            <a:ext cx="3240000" cy="36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马龙翔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李云飞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司马相如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王洪祥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文树安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Text Box 4"/>
          <p:cNvSpPr/>
          <p:nvPr/>
        </p:nvSpPr>
        <p:spPr>
          <a:xfrm>
            <a:off x="1990800" y="177336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sk I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请翻译以下姓名并总结姓名的翻译原则和翻译技巧。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Text Box 5"/>
          <p:cNvSpPr/>
          <p:nvPr/>
        </p:nvSpPr>
        <p:spPr>
          <a:xfrm>
            <a:off x="5232240" y="2347920"/>
            <a:ext cx="4392720" cy="29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 Longxia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 Yunfe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  Sima Xiangru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. Wang Hongxia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. Wen Shu’a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randomBar dir="vert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964960" y="1315800"/>
            <a:ext cx="7239240" cy="1104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6699"/>
                </a:solidFill>
                <a:latin typeface="Arial"/>
              </a:rPr>
              <a:t>第二单元 名片翻译</a:t>
            </a:r>
            <a:endParaRPr b="0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9" name="Rectangle 4"/>
          <p:cNvSpPr/>
          <p:nvPr/>
        </p:nvSpPr>
        <p:spPr>
          <a:xfrm>
            <a:off x="1523880" y="0"/>
            <a:ext cx="446400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0" name="Picture 13" descr="ANd9GcQC2pO6aDICVMAcTVBZRcsq-sBkbiTPVqfvbpMhdrOCT0h99AIC9g"/>
          <p:cNvPicPr/>
          <p:nvPr/>
        </p:nvPicPr>
        <p:blipFill>
          <a:blip r:embed="rId1"/>
          <a:stretch/>
        </p:blipFill>
        <p:spPr>
          <a:xfrm>
            <a:off x="4583160" y="3213000"/>
            <a:ext cx="2619360" cy="174312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2893680" y="1827360"/>
            <a:ext cx="3057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.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李安 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7.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陆克文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.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梁朝伟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9.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孔子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.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李小龙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Text Box 4"/>
          <p:cNvSpPr/>
          <p:nvPr/>
        </p:nvSpPr>
        <p:spPr>
          <a:xfrm>
            <a:off x="6168960" y="1197000"/>
            <a:ext cx="4464000" cy="31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. Ang Le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7. Kevin Michael Rud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. Tony Leu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9. Confuciu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.Bruce Le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randomBar dir="vert"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【</a:t>
            </a:r>
            <a:r>
              <a:rPr b="0" lang="zh-CN" sz="3600" spc="-1" strike="noStrike">
                <a:solidFill>
                  <a:srgbClr val="006666"/>
                </a:solidFill>
                <a:latin typeface="Arial"/>
              </a:rPr>
              <a:t>解析</a:t>
            </a: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】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1827360" y="1827360"/>
            <a:ext cx="975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姓名的翻译可以采用音译法和定译法。第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—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小题采用音译法进行翻译，其中司马相如是复姓人名，翻译时要区分姓和名的分界点，类似的人名还有诸葛亮，西门吹雪，欧阳修等。文树安则要在“安”字的拼音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前加上一撇，以避免歧义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6666"/>
                </a:solidFill>
                <a:latin typeface="Arial"/>
              </a:rPr>
              <a:t>解析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1827360" y="1827360"/>
            <a:ext cx="975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第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—1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小题采用的是定译法。梁朝伟、李安本就有英文名，虽然二人采用的是另一种拼音方式，但我们一般遵从“名从主人”的原则，仍然加以采用。陆克文是澳大利亚前总理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vin Michael Rudd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的中文名。孔子是中国古代名人，其英文名早有定译。众所周知，李小龙的英文名为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uce Lee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。由本题可见，翻译人名，重在查证。只有确定一个人本身没有固定的中外名后，才能采用音译法进行翻译。这不仅能表现翻译的严谨，更能体现出对名字主人的尊重。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114280" y="333000"/>
            <a:ext cx="8302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Task II </a:t>
            </a:r>
            <a:r>
              <a:rPr b="0" lang="zh-CN" sz="3200" spc="-1" strike="noStrike">
                <a:solidFill>
                  <a:srgbClr val="006666"/>
                </a:solidFill>
                <a:latin typeface="Arial"/>
              </a:rPr>
              <a:t>请翻译以下头衔和职务，并总结头衔和职务的翻译技巧。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2351160" y="1699920"/>
            <a:ext cx="2736720" cy="455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第一组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部长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司长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局长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省长  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县长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.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镇长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.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秘书长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办公厅主任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.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处长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.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科长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Text Box 5"/>
          <p:cNvSpPr/>
          <p:nvPr/>
        </p:nvSpPr>
        <p:spPr>
          <a:xfrm>
            <a:off x="4943520" y="2133720"/>
            <a:ext cx="6011640" cy="43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5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nister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rector General    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Bureau Director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 Govern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. Chief Executive, County Govern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. Chief Executive, Township Government      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. Secretary-General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 Director, General Offi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. Division Chief/Direct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. Section Chief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randomBar dir="vert"/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6" dur="500"/>
                                        <p:tgtEl>
                                          <p:spTgt spid="2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1" dur="500"/>
                                        <p:tgtEl>
                                          <p:spTgt spid="2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2063520" y="549000"/>
            <a:ext cx="25542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5000"/>
              </a:lnSpc>
              <a:spcBef>
                <a:spcPts val="6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11. 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科员 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6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12. 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发言人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6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13. 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顾问 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6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14. 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巡视员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6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15. 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特派员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6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16. 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总领事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6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17. 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审判长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6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18. 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警督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6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19. 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法医 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Bef>
                <a:spcPts val="6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20. 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领事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5808600" y="476280"/>
            <a:ext cx="424836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1. Clerk/Officer  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2. Spokespers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3.Adviser/Consulta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4. Inspector/Monitor  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5. Commissioner 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6. Consul Genera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7. Chief Judge  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8. Supervisor     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9. Legal Medical  Expert 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0. Consu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randomBar dir="vert"/>
  </p:transition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0" dur="500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5" dur="2000"/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0" dur="500"/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5" dur="500"/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0" dur="500"/>
                                        <p:tgtEl>
                                          <p:spTgt spid="2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2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1" dur="500"/>
                                        <p:tgtEl>
                                          <p:spTgt spid="2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2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2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6666"/>
                </a:solidFill>
                <a:latin typeface="Arial"/>
              </a:rPr>
              <a:t>解析：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1703160" y="1699920"/>
            <a:ext cx="9948600" cy="477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政府行政人员职务名称的翻译是一项复杂的任务。一是因为中国与英语国家的行政划分大为不同，中国的行政级别繁多，名目也较英语国家更丰富；二是中英行政职务有诸多不对等之处，许多在中国街知巷闻的职务在英语国家难觅踪迹。究其根底，是国情不同，造就了翻译上的许多困难。有困难就有对策，对策之一就是寻找对等词。权威的字典如陆谷孙的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英汉大词典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，外研社的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汉英词典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提供了许多词语的对等词。比如部长（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ister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、秘书长（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retary-General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、发言人（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okesperson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、领事（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ul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等；对策之二是遵循约定俗成的惯例。比如，县长、镇长、处长、科长四个词，一般都可以用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ief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或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ief executive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来翻译，然后再加上各自管辖的权限。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006666"/>
                </a:solidFill>
                <a:latin typeface="Arial"/>
              </a:rPr>
              <a:t>第二组</a:t>
            </a:r>
            <a:endParaRPr b="0" lang="en-US" sz="35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2495520" y="1413000"/>
            <a:ext cx="2952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会长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主席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名誉顾问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理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总干事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.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总监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.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董事长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总裁       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.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总经理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.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财务主管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Text Box 4"/>
          <p:cNvSpPr/>
          <p:nvPr/>
        </p:nvSpPr>
        <p:spPr>
          <a:xfrm>
            <a:off x="6024600" y="1700280"/>
            <a:ext cx="3744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sident  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ir/Chairperson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. Honorary Adviser 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. Trustee/Council Memb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. Director-General  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. Director    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. Chairman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. Presid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. General Manager/C.E.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. Finance Controlle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randomBar dir="vert"/>
  </p:transition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2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2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2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2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2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2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2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2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2855520" y="1628640"/>
            <a:ext cx="3057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.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公关部经理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.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营业部经理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3.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销售部经理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.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出纳员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.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车间主任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.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采购员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7.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技师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8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领班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.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仓库管理员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.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审计员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Text Box 4"/>
          <p:cNvSpPr/>
          <p:nvPr/>
        </p:nvSpPr>
        <p:spPr>
          <a:xfrm>
            <a:off x="6024600" y="1557360"/>
            <a:ext cx="3240000" cy="40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1. PR Manager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2. Business Manag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3. Sales Manager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4. Cashier     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5. Workshop Manager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6. Purchaser/buy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7. Technicia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8. Captain   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9. Storekeep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0. Auditing Clerk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randomBar dir="vert"/>
  </p:transition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006666"/>
                </a:solidFill>
                <a:latin typeface="Arial"/>
              </a:rPr>
              <a:t>第三组</a:t>
            </a:r>
            <a:endParaRPr b="0" lang="en-US" sz="35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2927520" y="1341360"/>
            <a:ext cx="2985840" cy="46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高级工程师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教授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建筑师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设计师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机械师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.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化验员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.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质检员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农业技术员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.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外科主治医师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.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主治医师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6311880" y="1628640"/>
            <a:ext cx="3672000" cy="40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Engineer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fessor   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. Architect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. Design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. Mechanic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. Chemical Analyst    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. Quality Inspector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. Agricultural Technicia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. Surgeon-in-charge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. Doctor-in-charg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randomBar dir="vert"/>
  </p:transition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6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0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4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8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2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6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2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2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0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4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2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2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8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2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2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 txBox="1"/>
          <p:nvPr/>
        </p:nvSpPr>
        <p:spPr>
          <a:xfrm>
            <a:off x="2782440" y="1628640"/>
            <a:ext cx="2986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.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总编辑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.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记者  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3.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助理翻译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.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录音师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.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舞蹈编剧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.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美工师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7.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化妆师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8.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舞台监督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.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摄影师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.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电视主持人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Text Box 4"/>
          <p:cNvSpPr/>
          <p:nvPr/>
        </p:nvSpPr>
        <p:spPr>
          <a:xfrm>
            <a:off x="5699160" y="1557360"/>
            <a:ext cx="4968720" cy="40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1. Editor-in-chief 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2. Report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3. Assistant Translator/Interpreter 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4. Sound Engineer  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5. Choreographer 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6. Art Direct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7. Make-up Artist 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8. Stage Manager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9. Cameraman 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0. TV Present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6666"/>
                </a:solidFill>
                <a:latin typeface="Arial"/>
              </a:rPr>
              <a:t>名片翻译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2" name="Rectangle 9"/>
          <p:cNvSpPr/>
          <p:nvPr/>
        </p:nvSpPr>
        <p:spPr>
          <a:xfrm>
            <a:off x="2424240" y="1773360"/>
            <a:ext cx="2485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99"/>
                </a:solidFill>
                <a:latin typeface="Arial"/>
              </a:rPr>
              <a:t>本章概要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Text Box 12"/>
          <p:cNvSpPr/>
          <p:nvPr/>
        </p:nvSpPr>
        <p:spPr>
          <a:xfrm>
            <a:off x="2208240" y="2565360"/>
            <a:ext cx="8935920" cy="520560"/>
          </a:xfrm>
          <a:prstGeom prst="rect">
            <a:avLst/>
          </a:prstGeom>
          <a:solidFill>
            <a:srgbClr val="99cccc"/>
          </a:solidFill>
          <a:ln w="93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名片是人类交往带来的产物。名片在中国古代又称谒、名刺、门状、名帖，是拜访他人时表明自己身份，并起介绍作用的文书。古代名片的内容及所用的材料都与现代差别甚大。在中国，最初的名片即“谒”通常刻在竹片或木片上的，而后来的门状、名帖则是采用纸质的。现代名片由西方传来，是商业交际活动的产物。现代的名片不仅制作精美，内容丰富，语言也由过去的单一语言变为多种语言。在现代商业活动日趋国际化的大潮下，名片的双语化、多语化是大势所趋，这就要求我们了解名片的翻译。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423880" y="301320"/>
            <a:ext cx="7783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Task III </a:t>
            </a:r>
            <a:r>
              <a:rPr b="0" lang="zh-CN" sz="3200" spc="-1" strike="noStrike">
                <a:solidFill>
                  <a:srgbClr val="006666"/>
                </a:solidFill>
                <a:latin typeface="Arial"/>
              </a:rPr>
              <a:t>请将下列公司名称翻译成英文。</a:t>
            </a:r>
            <a:r>
              <a:rPr b="0" lang="zh-CN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1968480" y="1827360"/>
            <a:ext cx="7367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美的集团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dea Grou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恒生银行    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ng Seng Ban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中国建设银行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ina Construction Ban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宁波奥克斯空调有限公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ingbo Aux Air Conditioner Co. , Lt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青岛啤酒股份有限公司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ingtao Brewery Co., Lt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randomBar dir="vert"/>
  </p:transition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2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2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2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2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2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2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1847520" y="1628640"/>
            <a:ext cx="95886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.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中国外运股份有限公司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notrans Limit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.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广州铁路集团公司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uangzhou Railway Grou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中国南方电网公司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ina Southern Power Gri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.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华为技术有限公司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uawei Technologies Co., Ltd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.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深圳市海光国际物流有限公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enzhen Shining Ocean International Logistics Co., Lt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randomBar dir="vert"/>
  </p:transition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6666"/>
                </a:solidFill>
                <a:latin typeface="Arial"/>
              </a:rPr>
              <a:t>解析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1733040" y="1628640"/>
            <a:ext cx="995868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公司名的翻译也是名片翻译中经常遇到的一个棘手问题。对于公司名，同样要先进行查找该公司是否有现成的中英文对照名称，有则用之；其次，要看该公司名是否有约定俗成的译名，如果有，也可以沿用之；对于没有现成英文名和常见译名的公司名，我们才采取自译的方法。表示公司的词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用得最多，简写为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.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。如果是有限公司，就要加上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ed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或其简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., Ltd.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。有些公司名中，会将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一词省掉，比如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yer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拜耳化学公司）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yota Motor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丰田汽车公司）。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集团或集团公司称为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oup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或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rporation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。在美国英语中，一般认为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rporation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要比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大。除了这几个词，还可以根据公司性质的不同，采用形式多样的翻译方法。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2135160" y="1628640"/>
            <a:ext cx="9499680" cy="431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irline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，用于航空公司的名称中，如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strian Airline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奥地利航空公司）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ina Southern Airlines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中国南方航空公司）。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ne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，用于轮船公司的名称中，如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apan Line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日本海运公司）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orea Shipping Line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韩国海运公司）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tlantic Coast Line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太平洋沿岸轮船公司）。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ustries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，用于表示实业或工业，如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anyi Industry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三一重工）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mimoto Metal Industries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住友金属公司）。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terprises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，用于表示企业公司或实业公司，如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ca-Cola Enterprises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可口可乐企业公司）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Zhongfang Textile Enterprises Limited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中纺纺织实业有限公司）。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2207880" y="1827360"/>
            <a:ext cx="9448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rvice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多指服务性质的公司，如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.S. Postal Service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美国邮政总局）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ted Parcel Service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联合包裹服务公司）。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surance/assurance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，用于保险公司，如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ina Life Insurance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中国人寿保险公司）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ing An Insurance Company of China, Ltd.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中国平安保险公司）。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，用于分公司、分号等，如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ng Seng Bank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td. Shanghai Branch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恒生银行上海分行）。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nk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，用于银行，如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nk of China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中国银行）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ina Construction Bank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中国建设银行）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ina Citic Bank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中信银行）。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Task IV </a:t>
            </a:r>
            <a:r>
              <a:rPr b="0" lang="zh-CN" sz="3200" spc="-1" strike="noStrike">
                <a:solidFill>
                  <a:srgbClr val="006666"/>
                </a:solidFill>
                <a:latin typeface="Arial"/>
              </a:rPr>
              <a:t>请将下列机构或团体名称翻译成英文。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2495160" y="1557360"/>
            <a:ext cx="727236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国际武术联合会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national Wushu Feder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国际移民组织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national Organization for Migr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绿色和平组织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eenpeac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中国书法家协会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ina Calligraphers Associatio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中国野生动物保护协会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ina Wildlife Conservation Associ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randomBar dir="vert"/>
  </p:transition>
  <p:timing>
    <p:tnLst>
      <p:par>
        <p:cTn id="568" dur="indefinite" restart="never" nodeType="tmRoot">
          <p:childTnLst>
            <p:seq>
              <p:cTn id="569" dur="indefinite" nodeType="mainSeq">
                <p:childTnLst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2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2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2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2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2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2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2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2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 txBox="1"/>
          <p:nvPr/>
        </p:nvSpPr>
        <p:spPr>
          <a:xfrm>
            <a:off x="1415520" y="1628640"/>
            <a:ext cx="9703080" cy="554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.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中国志愿者保护藏羚羊协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China Volunteers Association on Protection for   Tibetan Antelop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.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中国翻译工作者协会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Translators Association of Chin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中山市家具商会   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Zhongshan Furniture Trade Associ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.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中国可持续发展研究会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China Society for Sustainable Developmen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.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北京市新能源与可再生能源协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Beijing Association of New Energy and Renewable Energy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randomBar dir="vert"/>
  </p:transition>
  <p:timing>
    <p:tnLst>
      <p:par>
        <p:cTn id="630" dur="indefinite" restart="never" nodeType="tmRoot">
          <p:childTnLst>
            <p:seq>
              <p:cTn id="631" dur="indefinite" nodeType="mainSeq">
                <p:childTnLst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2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2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2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2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2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2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2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2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2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2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6666"/>
                </a:solidFill>
                <a:latin typeface="Arial"/>
              </a:rPr>
              <a:t>解析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11280" y="1827360"/>
            <a:ext cx="10144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协会、组织名作为专有名词的一种，其翻译方法也是遵循先查证，查证不到再翻译的原则。表示协会、组织的英语词汇有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ganization, association, club, institute, union, league, federation, society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等。这些词汇意思相近，但在使用上也有一些差别：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ganization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，从广义上表示组织、机构、团体等。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ub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，表俱乐部或会社，其成员因志同道合，有共同兴趣、爱好而组织到一起进行社交、娱乐或体育等活动。如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G Car Club China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G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中国汽车俱乐部）。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ociation: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指较为正式的组织，强调兴趣和需要的一致性。如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nslators Association of China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中国翻译协会）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ina Calligraphers Association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中国书法家协会等）。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1494000" y="1557360"/>
            <a:ext cx="10206000" cy="438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stitute: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指为专门的目标而建立的学会或研究所。如美国供应管理协会（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stitute for Supply Management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，中国电子学会（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ina Institute of Electronics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。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gue: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指为了共同的目的和利益而组成的社团、同盟或联合会。如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ina Democratic League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中国民主同盟）。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on: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多指工会，也指学会或协会。如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merican Geophysical Union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美国地球物理学会）。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ciety: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可与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ociation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换用，但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ciety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的宗旨更严格，会员之间联系更紧密，活动更积极。如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ciety for Community Organization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香港社区组织协会）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iwan Classical Music Society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台湾古典音乐学会）。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Task V</a:t>
            </a: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006666"/>
                </a:solidFill>
                <a:latin typeface="Arial"/>
              </a:rPr>
              <a:t>请将下列公司部门翻译成英文。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2894040" y="1827360"/>
            <a:ext cx="2625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总公司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分公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总务部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人事部   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财务部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.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销售部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.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国际部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出口部   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.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进口部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.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公共关系部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Text Box 4"/>
          <p:cNvSpPr/>
          <p:nvPr/>
        </p:nvSpPr>
        <p:spPr>
          <a:xfrm>
            <a:off x="5448240" y="1773360"/>
            <a:ext cx="5219640" cy="40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d Office              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. Branch Office  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. General Affairs Department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. Personnel Depart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. General Accounting Department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. Sales Department 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. International Department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. Export Depart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. Import Department         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. Public Relations Depart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randomBar dir="vert"/>
  </p:transition>
  <p:timing>
    <p:tnLst>
      <p:par>
        <p:cTn id="692" dur="indefinite" restart="never" nodeType="tmRoot">
          <p:childTnLst>
            <p:seq>
              <p:cTn id="693" dur="indefinite" nodeType="mainSeq">
                <p:childTnLst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8" dur="500"/>
                                        <p:tgtEl>
                                          <p:spTgt spid="2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2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2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39" dur="2000"/>
                                        <p:tgtEl>
                                          <p:spTgt spid="2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4" dur="500"/>
                                        <p:tgtEl>
                                          <p:spTgt spid="2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2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2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6666"/>
                </a:solidFill>
                <a:latin typeface="Arial"/>
              </a:rPr>
              <a:t>企业简介翻译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782800" y="1844640"/>
            <a:ext cx="1944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99"/>
                </a:solidFill>
                <a:latin typeface="Arial"/>
              </a:rPr>
              <a:t>本章重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Text Box 5"/>
          <p:cNvSpPr/>
          <p:nvPr/>
        </p:nvSpPr>
        <p:spPr>
          <a:xfrm>
            <a:off x="4727520" y="1701720"/>
            <a:ext cx="5391360" cy="1191240"/>
          </a:xfrm>
          <a:prstGeom prst="rect">
            <a:avLst/>
          </a:prstGeom>
          <a:solidFill>
            <a:srgbClr val="99cccc"/>
          </a:solidFill>
          <a:ln w="93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1.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了解名片的语言特点；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2.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掌握名片翻译的定译、音译和零翻译；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3.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掌握名片翻译中姓名、头衔、职务和地址的翻译策略。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2855880" y="4292640"/>
            <a:ext cx="15112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99"/>
                </a:solidFill>
                <a:latin typeface="Arial"/>
              </a:rPr>
              <a:t>本章难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Text Box 7"/>
          <p:cNvSpPr/>
          <p:nvPr/>
        </p:nvSpPr>
        <p:spPr>
          <a:xfrm>
            <a:off x="4727520" y="4005360"/>
            <a:ext cx="5585040" cy="459720"/>
          </a:xfrm>
          <a:prstGeom prst="rect">
            <a:avLst/>
          </a:prstGeom>
          <a:solidFill>
            <a:srgbClr val="99cccc"/>
          </a:solidFill>
          <a:ln w="93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教会学生根据实际情况选择恰当的翻译方法和技巧，同时注重汉英两种语言和文化的异同对翻译的影响。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 txBox="1"/>
          <p:nvPr/>
        </p:nvSpPr>
        <p:spPr>
          <a:xfrm>
            <a:off x="2495160" y="1700280"/>
            <a:ext cx="2521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.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广告部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.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企划部 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3.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培训部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.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质量控制部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.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董事会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.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营销部 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7.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物流部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8.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工程部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.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研发部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.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售后服务部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Text Box 4"/>
          <p:cNvSpPr/>
          <p:nvPr/>
        </p:nvSpPr>
        <p:spPr>
          <a:xfrm>
            <a:off x="4871880" y="1628640"/>
            <a:ext cx="6120000" cy="40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1. Advertising Department    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2. Planning Depart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3. Training Department 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4. Quality Control Department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5. Board of Directors        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6. Marketing Depart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7. Logistics Department        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8. Engineering Department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9. Research and Development Depart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0. Customer Service Depart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Task VI</a:t>
            </a: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006666"/>
                </a:solidFill>
                <a:latin typeface="Arial"/>
              </a:rPr>
              <a:t>请将以下中文地址翻译成英文。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1657080" y="1628640"/>
            <a:ext cx="1018836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上海市乌鲁木齐中路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号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. 12, Urumqizhong Road, Shangha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北京市东城区海运仓胡同一号京东宾馆会议中心一层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st fl., Jingdong Hotel Conference Centre, No.1, Haiyuncang Alley, Dongcheng District, Beij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北京市崇文区珠市口东大街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号楼四层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th fl., No.3 of Zhushikou Street (East), Chongwen District, Beij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北京市东城区美术馆后街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3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号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. 23rd Art Museum Backstreet, Dongcheng District, Beij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广州海珠区阅江中路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8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号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. 380, Yuejiangzhong Road, Haizhu District, Guangzhou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randomBar dir="vert"/>
  </p:transition>
  <p:timing>
    <p:tnLst>
      <p:par>
        <p:cTn id="751" dur="indefinite" restart="never" nodeType="tmRoot">
          <p:childTnLst>
            <p:seq>
              <p:cTn id="752" dur="indefinite" nodeType="mainSeq">
                <p:childTnLst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9" dur="5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6" dur="500" fill="hold"/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2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2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2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2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2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2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2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6" dur="500" fill="hold"/>
                                        <p:tgtEl>
                                          <p:spTgt spid="2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2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2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558440" y="1557000"/>
            <a:ext cx="10240920" cy="476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广州市天河北路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33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号中信广场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201—720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室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om 7201-7202, Citic Plaza, No. 233, Tianhe Road (N), Guangzhou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广州市黄埔大道西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6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号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. 66, Huangpudadao(W), Guangzhou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武汉市江汉路步行街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26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号长盛大厦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—5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楼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-5th fl., Changsheng Building, No.126, Pedestrian Sreet,Jianghan Road, Wuha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武汉市武昌区武珞路阅马场云鹤大厦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10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室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om 1102, Yunhe Building, Yuemachang, Wuge Road, Wuchang District, Wuha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北京市东城区朝阳门北大街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号富华大厦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座首层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st fl., Building A of Fuhua Mansion, No. 8, Chaoyangmen Street(N), Dongcheng District, Beij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randomBar dir="vert"/>
  </p:transition>
  <p:timing>
    <p:tnLst>
      <p:par>
        <p:cTn id="813" dur="indefinite" restart="never" nodeType="tmRoot">
          <p:childTnLst>
            <p:seq>
              <p:cTn id="814" dur="indefinite" nodeType="mainSeq">
                <p:childTnLst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2" dur="500" fill="hold"/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7" dur="500" fill="hold"/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8" dur="500" fill="hold"/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3" dur="500" fill="hold"/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4" dur="500" fill="hold"/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9" dur="500" fill="hold"/>
                                        <p:tgtEl>
                                          <p:spTgt spid="2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0" dur="500" fill="hold"/>
                                        <p:tgtEl>
                                          <p:spTgt spid="2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2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7" dur="500" fill="hold"/>
                                        <p:tgtEl>
                                          <p:spTgt spid="2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8" dur="500" fill="hold"/>
                                        <p:tgtEl>
                                          <p:spTgt spid="2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3" dur="500" fill="hold"/>
                                        <p:tgtEl>
                                          <p:spTgt spid="2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4" dur="500" fill="hold"/>
                                        <p:tgtEl>
                                          <p:spTgt spid="2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6666"/>
                </a:solidFill>
                <a:latin typeface="Arial"/>
              </a:rPr>
              <a:t>解析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1827360" y="1827360"/>
            <a:ext cx="975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Verdana"/>
              </a:rPr>
              <a:t>地名翻译主要遵循汉语从大到小而英语从小到大的原则即可。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§ PART FOUR </a:t>
            </a:r>
            <a:r>
              <a:rPr b="0" lang="zh-CN" sz="3600" spc="-1" strike="noStrike">
                <a:solidFill>
                  <a:srgbClr val="006666"/>
                </a:solidFill>
                <a:latin typeface="Arial"/>
              </a:rPr>
              <a:t>讨论：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6527520" y="2781000"/>
            <a:ext cx="3824280" cy="23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Verdana"/>
              </a:rPr>
              <a:t>通过上述翻译任务，你认为翻译名片还要注意哪些事项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?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7" name="Picture 5" descr="group-discussion_2"/>
          <p:cNvPicPr/>
          <p:nvPr/>
        </p:nvPicPr>
        <p:blipFill>
          <a:blip r:embed="rId1"/>
          <a:stretch/>
        </p:blipFill>
        <p:spPr>
          <a:xfrm>
            <a:off x="2495520" y="2637000"/>
            <a:ext cx="3786120" cy="270648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I.</a:t>
            </a: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zh-CN" sz="3600" spc="-1" strike="noStrike">
                <a:solidFill>
                  <a:srgbClr val="006666"/>
                </a:solidFill>
                <a:latin typeface="Arial"/>
              </a:rPr>
              <a:t>名片翻译总结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1827360" y="1827360"/>
            <a:ext cx="975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本单元从名片的内容和功能谈起，讲述了名片的语言特征、名片翻译的原则和翻译技巧。现将名片翻译的原则和技巧进行归纳，见下页表格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0" name="Picture 4" descr="Img227837360"/>
          <p:cNvPicPr/>
          <p:nvPr/>
        </p:nvPicPr>
        <p:blipFill>
          <a:blip r:embed="rId1"/>
          <a:stretch/>
        </p:blipFill>
        <p:spPr>
          <a:xfrm>
            <a:off x="3216240" y="3716280"/>
            <a:ext cx="3241800" cy="209088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6666"/>
                </a:solidFill>
                <a:latin typeface="Arial"/>
              </a:rPr>
              <a:t>名片的翻译原则与方法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82" name=""/>
          <p:cNvGraphicFramePr/>
          <p:nvPr/>
        </p:nvGraphicFramePr>
        <p:xfrm>
          <a:off x="1919160" y="1844640"/>
          <a:ext cx="8137440" cy="3825720"/>
        </p:xfrm>
        <a:graphic>
          <a:graphicData uri="http://schemas.openxmlformats.org/drawingml/2006/table">
            <a:tbl>
              <a:tblPr/>
              <a:tblGrid>
                <a:gridCol w="1044720"/>
                <a:gridCol w="7092720"/>
              </a:tblGrid>
              <a:tr h="472680">
                <a:tc rowSpan="6">
                  <a:txBody>
                    <a:bodyPr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片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翻译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的原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则与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技巧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准确性：名片的翻译要忠实于原文的信息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2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简约性：名片的翻译要考虑到名片的篇幅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2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交际性：名片的翻译要以社会交际为目的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2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定译法：对于已经有固定或通用译法的人名、地名、机构名或其它专有名词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2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音译法：对于适合音译的人名或其它专有名词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96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零译法：对于某些常用并广为人知的缩略语、简写等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randomBar dir="vert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II.</a:t>
            </a: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zh-CN" sz="3600" spc="-1" strike="noStrike">
                <a:solidFill>
                  <a:srgbClr val="006666"/>
                </a:solidFill>
                <a:latin typeface="Arial"/>
              </a:rPr>
              <a:t>名片翻译余论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1609560" y="1827360"/>
            <a:ext cx="9591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名片中缩略语的翻译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名片中普遍使用缩略语和简写形式。这是由于名片篇幅有限，简写可以节省空间。一些简写和缩略语因为使用频繁，早已深入人心，形成了一种惯例，比如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l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代表电话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x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代表传真。在名片翻译中，我们一方面要了解各种缩略语和简写，以便能正确识别和翻译它们；另一方面，要善于在翻译中使用这些缩略语和简写，当然，前提是这些缩略语和简写不能带来歧义和疑惑。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2. </a:t>
            </a:r>
            <a:r>
              <a:rPr b="0" lang="zh-CN" sz="3600" spc="-1" strike="noStrike">
                <a:solidFill>
                  <a:srgbClr val="006666"/>
                </a:solidFill>
                <a:latin typeface="Arial"/>
              </a:rPr>
              <a:t>职务职称的翻译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1717200" y="1827360"/>
            <a:ext cx="9953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名片中体现个人职称职务词汇的翻译非常重要，它关系到名片能否准确地传达原有的信息。由于汉语称谓丰富多样，头衔更是名目繁多，要做到准确再现原称谓名的含义是十分困难的。在实际翻译过程中，我们主要参照英语国家既有的名称进行对照翻译。我国许多职业称呼和行政职务在英语里都有国际通用的功能等值词。（胡晓妏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006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对于这些词，可以采用定译的方法。如：教授（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fessor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，省长（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vernor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，总经理（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l Manager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，大学校长（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sident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等；还有一些职务的翻译则见仁见智，比如局长，有人译成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reau Director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，有人译成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reau Chief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，还有人译成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reau Manager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6666"/>
                </a:solidFill>
                <a:latin typeface="Arial"/>
              </a:rPr>
              <a:t>职务职称的翻译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1649520" y="1827360"/>
            <a:ext cx="9928080" cy="44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Times New Roman"/>
              </a:rPr>
              <a:t>对于那些没有对应英语职称职务的词汇，我们首先要仔细查证单位和行政职务的级别，再酌情选择合适的英语词汇来翻译。比如“局长”一词，国家市场监督管理总局局长和某地级市，局长和河南省濮阳市教育局局长虽然同为局长称呼，但从级别上来讲，前者是部级单位，后者是处级单位。那么在翻译中，总局的局长要翻译成</a:t>
            </a:r>
            <a:r>
              <a:rPr b="0" lang="zh-CN" sz="2100" spc="-1" strike="noStrike">
                <a:solidFill>
                  <a:srgbClr val="000000"/>
                </a:solidFill>
                <a:latin typeface="Times New Roman"/>
              </a:rPr>
              <a:t>Minister</a:t>
            </a:r>
            <a:r>
              <a:rPr b="0" lang="zh-CN" sz="2100" spc="-1" strike="noStrike">
                <a:solidFill>
                  <a:srgbClr val="000000"/>
                </a:solidFill>
                <a:latin typeface="Times New Roman"/>
              </a:rPr>
              <a:t>，某地级市教育局的局长适合翻译成</a:t>
            </a:r>
            <a:r>
              <a:rPr b="0" lang="zh-CN" sz="2100" spc="-1" strike="noStrike">
                <a:solidFill>
                  <a:srgbClr val="000000"/>
                </a:solidFill>
                <a:latin typeface="Times New Roman"/>
              </a:rPr>
              <a:t>Director</a:t>
            </a:r>
            <a:r>
              <a:rPr b="0" lang="zh-CN" sz="21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Times New Roman"/>
              </a:rPr>
              <a:t>英语中表示副职的词有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associate, assistant, vice, deputy</a:t>
            </a:r>
            <a:r>
              <a:rPr b="0" lang="zh-CN" sz="2100" spc="-1" strike="noStrike">
                <a:solidFill>
                  <a:srgbClr val="000000"/>
                </a:solidFill>
                <a:latin typeface="Times New Roman"/>
              </a:rPr>
              <a:t>等。翻译时，应该根据不同的职位选择不同的用词。举例如下：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Times New Roman"/>
              </a:rPr>
              <a:t>副省长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vice/deputy governor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Times New Roman"/>
              </a:rPr>
              <a:t>副主席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vice chairma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Times New Roman"/>
              </a:rPr>
              <a:t>副教授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associate professor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Times New Roman"/>
              </a:rPr>
              <a:t>副经理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assistant manager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11" descr="why"/>
          <p:cNvPicPr/>
          <p:nvPr/>
        </p:nvPicPr>
        <p:blipFill>
          <a:blip r:embed="rId1"/>
          <a:stretch/>
        </p:blipFill>
        <p:spPr>
          <a:xfrm>
            <a:off x="2639880" y="3716280"/>
            <a:ext cx="3870360" cy="257328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855880" y="765000"/>
            <a:ext cx="7313760" cy="750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imes New Roman"/>
              </a:rPr>
              <a:t>§ 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PART ONE</a:t>
            </a:r>
            <a:r>
              <a:rPr b="1" lang="en-US" sz="32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6666"/>
                </a:solidFill>
                <a:latin typeface="Times New Roman"/>
              </a:rPr>
              <a:t>认识名片与名片翻译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866600" y="1988640"/>
            <a:ext cx="9590040" cy="15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8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ask I 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请于课前收集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张中英文对照的名片，观察并讨论：名片是什么；名片由什么构成；它有什么特征和功能？</a:t>
            </a:r>
            <a:r>
              <a:rPr b="0" lang="zh-CN" sz="3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§ PART FIVE </a:t>
            </a:r>
            <a:r>
              <a:rPr b="0" lang="zh-CN" sz="2800" spc="-1" strike="noStrike">
                <a:solidFill>
                  <a:srgbClr val="006666"/>
                </a:solidFill>
                <a:latin typeface="Arial"/>
              </a:rPr>
              <a:t>译技点津：</a:t>
            </a:r>
            <a:r>
              <a:rPr b="0" lang="zh-CN" sz="3200" spc="-1" strike="noStrike">
                <a:solidFill>
                  <a:srgbClr val="006666"/>
                </a:solidFill>
                <a:latin typeface="Arial"/>
              </a:rPr>
              <a:t>翻译技巧之专有名词的翻译</a:t>
            </a:r>
            <a:r>
              <a:rPr b="0" lang="zh-CN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1743120" y="1844280"/>
            <a:ext cx="971712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姓名的翻译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人名属于专有名词，它是一个人在社会上的称呼，是一种符号，指代特定的人。中国人名习惯姓在前，名在后；这与国际通用的名在前，姓在后正好相反。无论中外，一个人的名字通常都具有深刻的含义。父母给孩子起的名字都是深思熟虑的结果。比如，英文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briel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代表上帝派来的使者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erome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让人联想到有趣、聪明又体贴的男孩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ric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代表永远的领导者。中文名字的内涵显而易见，比如李红忠，“红”就代表着根正苗红，“忠”代表着忠于国家和人民；又如刘翔，说明父母希望他能“展翅飞翔”。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6666"/>
                </a:solidFill>
                <a:latin typeface="Arial"/>
              </a:rPr>
              <a:t>姓名的翻译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1662120" y="1827360"/>
            <a:ext cx="9917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人名的翻译一般采取“名从主人”的原则，就是说人名的翻译要按照名字主人的叫法。中文人名的英译基本采取音译法，按照中国人的习惯，姓在前，名在后。姓和名的第一个字母大写，姓与名之间留出一个空格。比如张大民，就可以译成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Zhang Damin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；复姓如西门或司马，虽然是两个字，但拼音之间没有空格，不可分开。复姓的翻译中，仍然只是大写姓的第一个字母，其它字母采用小写。比如司马相如，就可以翻译成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a Xiangru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。有些人在翻译中为了突出自己的姓氏，也采用将姓全部大写，比如张海东，可以翻译为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ZHANG Haidong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6666"/>
                </a:solidFill>
                <a:latin typeface="Arial"/>
              </a:rPr>
              <a:t>姓名的翻译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1819440" y="1628640"/>
            <a:ext cx="9758160" cy="431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采用拼音翻译还要注意一点，就是当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开头的音节接在其它音节之后时，要加隔音符号隔开，以免产生误读。如李汉奥就要翻译成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 Han’ao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，不然就有可能被误读为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 Ha’nao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根据“名从主人”的原则，如果一个人本身就取了英文名，比如说港澳台同胞，从小就是有英文名的，我们就要按照他的英文名来翻译，而不能采取拼音翻译法。原因有二，其一出于尊重他人，尊重他们对自己姓名的选择；其二是这样才能够做到标准统一。比如说刘德华的英文名叫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y Lau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，名是欧美习惯，姓则采用威妥玛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翟理斯拼音法。大家已经习惯了刘德华这个英文名，如果硬要翻译成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u Dehua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，反而让人不知道是谁，显得不伦不类。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II.</a:t>
            </a: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zh-CN" sz="3600" spc="-1" strike="noStrike">
                <a:solidFill>
                  <a:srgbClr val="006666"/>
                </a:solidFill>
                <a:latin typeface="Arial"/>
              </a:rPr>
              <a:t>地址的翻译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1568160" y="1628280"/>
            <a:ext cx="100774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中英文地址的写法不同，中文的写法是从大到小，英文则是从小到大。比如地址“广州市东风西路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87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号时代国际大厦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206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室”，对应的英文应该是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om 1206, Times International Building, No. 187, Dongfeng Road (West), Guangzhou”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。再看下面几个例子：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［例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］原文：北京市崇文区天坛南里西区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楼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单元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1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译文：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om 101, Unit 3, building No. 20, Tiantannanli West Area, Chongwen district, Beijing Cit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［例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］原文：江苏省扬州市宝应县泰山东村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栋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04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室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译文：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om 204, building No.102, East TaiShan Village, BaoYin County, Jiangsu Provin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6666"/>
                </a:solidFill>
                <a:latin typeface="Arial"/>
              </a:rPr>
              <a:t>地址的翻译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1598400" y="1827360"/>
            <a:ext cx="9783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［例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］原文：中国上海市浦东新区浦东大道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00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号阳光世界大厦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层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座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译文：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ite H, 22F, Sunshine World Tower, No. 2000, Pudong Av., Pudong New District, Shanghai, Chin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［例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］原文：福建省厦门市莲花五村龙昌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4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号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01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室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译文：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om 601, No.34, Lianhuawu Village, Longchangli, Xiamen, Fujian, Chin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［例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］原文：广东中山市东区亨达花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栋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02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译文：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om 702, 7th Building, Hengda Fenced Residential Quarter, East District, Zhongshan, Chin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6666"/>
                </a:solidFill>
                <a:latin typeface="Arial"/>
              </a:rPr>
              <a:t>地址的翻译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827360" y="1827360"/>
            <a:ext cx="975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从上面的翻译中我们可以总结出地址翻译的几点要求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第一，中文地址翻译成英文时，次序要颠倒过来，由从大到小变成由小到大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第二，英文中每个分级地名要大写首字母，且分级地名之间要用逗号隔开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第三，要使用简写形式，比如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mber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简写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., Roa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可以简写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d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om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可以简写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m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6666"/>
                </a:solidFill>
                <a:latin typeface="Arial"/>
              </a:rPr>
              <a:t>地址的翻译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1827360" y="1827360"/>
            <a:ext cx="975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6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第四，对于已经本身有中英对照名称的建筑物或地点要采用它本身的叫法，这也可以说是定译法。比如时代国际大厦，本身就有英文名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imes International Building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，这种情况下就不适合采用音译法。这种例子还有很多，比如香港有座大厦叫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ungking Mansion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，中文叫重庆大厦，它本身就是中英对照的。如果不明就里把它翻译成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ungking Building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或者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ongqing Building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都是不合适的。可以采用定译法的地名还有很多，举例如下：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 txBox="1"/>
          <p:nvPr/>
        </p:nvSpPr>
        <p:spPr>
          <a:xfrm>
            <a:off x="1919160" y="404640"/>
            <a:ext cx="684216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香格里拉大酒店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hangri-La Hote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天河城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eMal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上海东方之珠      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Oriental Pear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故宫                 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Forbidden Cit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长城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Great Wal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广百百货           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and Buy Department Sto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香港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ng Kon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澳门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cao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 txBox="1"/>
          <p:nvPr/>
        </p:nvSpPr>
        <p:spPr>
          <a:xfrm>
            <a:off x="1990440" y="836280"/>
            <a:ext cx="73134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西藏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ibe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拉萨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has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内蒙古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ner Mongoli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呼和浩特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uhehot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乌鲁木齐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rumchi/Urumqi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哈尔滨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rbi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新疆维吾尔自治区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injiang Uygur Autonomous Reg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6666"/>
                </a:solidFill>
                <a:latin typeface="Arial"/>
              </a:rPr>
              <a:t>地址的翻译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1827360" y="1827360"/>
            <a:ext cx="975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第五，对于路名、街道名的翻译，如果没有约定俗称的英文名和译名，基本可以采取音译法，后面再加上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ad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或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reet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。比如王府井大街，可以译成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angfujing Street,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东风西路可以译成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ngfeng Road (West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6666"/>
                </a:solidFill>
                <a:latin typeface="Arial"/>
              </a:rPr>
              <a:t>名片的起源与定义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879560" y="1700280"/>
            <a:ext cx="96998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4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名片是表明一个人身份的卡片，根据其持有者不同的交际意图，英语中可分为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siting card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lling card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me card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，或一律称为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d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。（胡晓姣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006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名片的内容一般包括个人的姓名、头衔、单位、联系方式等。在一般的社交和商务场合中，交际双方交换名片是一项基本礼仪。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350800" y="2599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Times New Roman"/>
              </a:rPr>
              <a:t>§ PART SIX </a:t>
            </a:r>
            <a:r>
              <a:rPr b="1" lang="zh-CN" sz="3600" spc="-1" strike="noStrike">
                <a:solidFill>
                  <a:srgbClr val="006666"/>
                </a:solidFill>
                <a:latin typeface="Times New Roman"/>
              </a:rPr>
              <a:t>名片</a:t>
            </a:r>
            <a:r>
              <a:rPr b="0" lang="zh-CN" sz="3600" spc="-1" strike="noStrike">
                <a:solidFill>
                  <a:srgbClr val="006666"/>
                </a:solidFill>
                <a:latin typeface="Times New Roman"/>
              </a:rPr>
              <a:t>翻译实践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2208240" y="1673280"/>
            <a:ext cx="30240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5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lang="zh-CN" sz="1900" spc="-1" strike="noStrike">
                <a:solidFill>
                  <a:srgbClr val="000000"/>
                </a:solidFill>
                <a:latin typeface="Times New Roman"/>
              </a:rPr>
              <a:t>技术总监       </a:t>
            </a:r>
            <a:r>
              <a:rPr b="0" lang="zh-CN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5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0" lang="zh-CN" sz="1900" spc="-1" strike="noStrike">
                <a:solidFill>
                  <a:srgbClr val="000000"/>
                </a:solidFill>
                <a:latin typeface="Times New Roman"/>
              </a:rPr>
              <a:t>信息技术经理</a:t>
            </a:r>
            <a:r>
              <a:rPr b="0" lang="zh-CN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5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0" lang="zh-CN" sz="1900" spc="-1" strike="noStrike">
                <a:solidFill>
                  <a:srgbClr val="000000"/>
                </a:solidFill>
                <a:latin typeface="Times New Roman"/>
              </a:rPr>
              <a:t>信息技术主管 </a:t>
            </a:r>
            <a:r>
              <a:rPr b="0" lang="zh-CN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5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0" lang="zh-CN" sz="1900" spc="-1" strike="noStrike">
                <a:solidFill>
                  <a:srgbClr val="000000"/>
                </a:solidFill>
                <a:latin typeface="Times New Roman"/>
              </a:rPr>
              <a:t>信息技术专员  </a:t>
            </a:r>
            <a:r>
              <a:rPr b="0" lang="zh-CN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5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0" lang="zh-CN" sz="1900" spc="-1" strike="noStrike">
                <a:solidFill>
                  <a:srgbClr val="000000"/>
                </a:solidFill>
                <a:latin typeface="Times New Roman"/>
              </a:rPr>
              <a:t>项目主管       </a:t>
            </a:r>
            <a:r>
              <a:rPr b="0" lang="zh-CN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5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6. </a:t>
            </a:r>
            <a:r>
              <a:rPr b="0" lang="zh-CN" sz="1900" spc="-1" strike="noStrike">
                <a:solidFill>
                  <a:srgbClr val="000000"/>
                </a:solidFill>
                <a:latin typeface="Times New Roman"/>
              </a:rPr>
              <a:t>信息安全工程师</a:t>
            </a:r>
            <a:r>
              <a:rPr b="0" lang="zh-CN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5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7. </a:t>
            </a:r>
            <a:r>
              <a:rPr b="0" lang="zh-CN" sz="1900" spc="-1" strike="noStrike">
                <a:solidFill>
                  <a:srgbClr val="000000"/>
                </a:solidFill>
                <a:latin typeface="Times New Roman"/>
              </a:rPr>
              <a:t>软件测试工程师 </a:t>
            </a:r>
            <a:r>
              <a:rPr b="0" lang="zh-CN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5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8. </a:t>
            </a:r>
            <a:r>
              <a:rPr b="0" lang="zh-CN" sz="1900" spc="-1" strike="noStrike">
                <a:solidFill>
                  <a:srgbClr val="000000"/>
                </a:solidFill>
                <a:latin typeface="Times New Roman"/>
              </a:rPr>
              <a:t>硬件测试工程师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5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9. </a:t>
            </a:r>
            <a:r>
              <a:rPr b="0" lang="zh-CN" sz="1900" spc="-1" strike="noStrike">
                <a:solidFill>
                  <a:srgbClr val="000000"/>
                </a:solidFill>
                <a:latin typeface="Times New Roman"/>
              </a:rPr>
              <a:t>测试员 </a:t>
            </a:r>
            <a:r>
              <a:rPr b="0" lang="zh-CN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5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10. </a:t>
            </a:r>
            <a:r>
              <a:rPr b="0" lang="zh-CN" sz="1900" spc="-1" strike="noStrike">
                <a:solidFill>
                  <a:srgbClr val="000000"/>
                </a:solidFill>
                <a:latin typeface="Times New Roman"/>
              </a:rPr>
              <a:t>网站营运经理</a:t>
            </a:r>
            <a:r>
              <a:rPr b="0" lang="zh-CN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5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11.</a:t>
            </a:r>
            <a:r>
              <a:rPr b="0" lang="zh-CN" sz="1900" spc="-1" strike="noStrike">
                <a:solidFill>
                  <a:srgbClr val="000000"/>
                </a:solidFill>
                <a:latin typeface="Times New Roman"/>
              </a:rPr>
              <a:t>客户服务经理 </a:t>
            </a:r>
            <a:r>
              <a:rPr b="0" lang="zh-CN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5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12. </a:t>
            </a:r>
            <a:r>
              <a:rPr b="0" lang="zh-CN" sz="1900" spc="-1" strike="noStrike">
                <a:solidFill>
                  <a:srgbClr val="000000"/>
                </a:solidFill>
                <a:latin typeface="Times New Roman"/>
              </a:rPr>
              <a:t>客户服务主管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Text Box 4"/>
          <p:cNvSpPr/>
          <p:nvPr/>
        </p:nvSpPr>
        <p:spPr>
          <a:xfrm>
            <a:off x="2424240" y="1496880"/>
            <a:ext cx="734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ask 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请将以下职务翻译成英文。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Text Box 6"/>
          <p:cNvSpPr/>
          <p:nvPr/>
        </p:nvSpPr>
        <p:spPr>
          <a:xfrm>
            <a:off x="5159520" y="1916280"/>
            <a:ext cx="4824360" cy="425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Technical Director 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IT Manager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3. IT Supervisor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4. IT Specialist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5. Project Supervisor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6. Information Security Engineer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7. Software QA Engineer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8. Hardware QA Engineer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9. Test Engineer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10. Web Operations Manager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11. Customer Service Manager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12. Customer Service Supervisor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randomBar dir="vert"/>
  </p:transition>
  <p:timing>
    <p:tnLst>
      <p:par>
        <p:cTn id="875" dur="indefinite" restart="never" nodeType="tmRoot">
          <p:childTnLst>
            <p:seq>
              <p:cTn id="876" dur="indefinite" nodeType="mainSeq">
                <p:childTnLst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1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2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1922040" y="1699920"/>
            <a:ext cx="32734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lang="zh-CN" sz="2100" spc="-1" strike="noStrike">
                <a:solidFill>
                  <a:srgbClr val="000000"/>
                </a:solidFill>
                <a:latin typeface="Times New Roman"/>
              </a:rPr>
              <a:t>销售总监   </a:t>
            </a:r>
            <a:r>
              <a:rPr b="0" lang="zh-CN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0" lang="zh-CN" sz="2100" spc="-1" strike="noStrike">
                <a:solidFill>
                  <a:srgbClr val="000000"/>
                </a:solidFill>
                <a:latin typeface="Times New Roman"/>
              </a:rPr>
              <a:t>销售经理     </a:t>
            </a:r>
            <a:r>
              <a:rPr b="0" lang="zh-CN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0" lang="zh-CN" sz="2100" spc="-1" strike="noStrike">
                <a:solidFill>
                  <a:srgbClr val="000000"/>
                </a:solidFill>
                <a:latin typeface="Times New Roman"/>
              </a:rPr>
              <a:t>区域销售经理</a:t>
            </a:r>
            <a:r>
              <a:rPr b="0" lang="zh-CN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0" lang="zh-CN" sz="2100" spc="-1" strike="noStrike">
                <a:solidFill>
                  <a:srgbClr val="000000"/>
                </a:solidFill>
                <a:latin typeface="Times New Roman"/>
              </a:rPr>
              <a:t>客户经理     </a:t>
            </a:r>
            <a:r>
              <a:rPr b="0" lang="zh-CN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0" lang="zh-CN" sz="2100" spc="-1" strike="noStrike">
                <a:solidFill>
                  <a:srgbClr val="000000"/>
                </a:solidFill>
                <a:latin typeface="Times New Roman"/>
              </a:rPr>
              <a:t>渠道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zh-CN" sz="2100" spc="-1" strike="noStrike">
                <a:solidFill>
                  <a:srgbClr val="000000"/>
                </a:solidFill>
                <a:latin typeface="Times New Roman"/>
              </a:rPr>
              <a:t>分销经理</a:t>
            </a:r>
            <a:r>
              <a:rPr b="0" lang="zh-CN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6. </a:t>
            </a:r>
            <a:r>
              <a:rPr b="0" lang="zh-CN" sz="2100" spc="-1" strike="noStrike">
                <a:solidFill>
                  <a:srgbClr val="000000"/>
                </a:solidFill>
                <a:latin typeface="Times New Roman"/>
              </a:rPr>
              <a:t>渠道主管     </a:t>
            </a:r>
            <a:r>
              <a:rPr b="0" lang="zh-CN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7. </a:t>
            </a:r>
            <a:r>
              <a:rPr b="0" lang="zh-CN" sz="2100" spc="-1" strike="noStrike">
                <a:solidFill>
                  <a:srgbClr val="000000"/>
                </a:solidFill>
                <a:latin typeface="Times New Roman"/>
              </a:rPr>
              <a:t>销售工程师</a:t>
            </a:r>
            <a:r>
              <a:rPr b="0" lang="zh-CN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8. </a:t>
            </a:r>
            <a:r>
              <a:rPr b="0" lang="zh-CN" sz="2100" spc="-1" strike="noStrike">
                <a:solidFill>
                  <a:srgbClr val="000000"/>
                </a:solidFill>
                <a:latin typeface="Times New Roman"/>
              </a:rPr>
              <a:t>销售助理    </a:t>
            </a:r>
            <a:r>
              <a:rPr b="0" lang="zh-CN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9. </a:t>
            </a:r>
            <a:r>
              <a:rPr b="0" lang="zh-CN" sz="2100" spc="-1" strike="noStrike">
                <a:solidFill>
                  <a:srgbClr val="000000"/>
                </a:solidFill>
                <a:latin typeface="Times New Roman"/>
              </a:rPr>
              <a:t>销售行政经理</a:t>
            </a:r>
            <a:r>
              <a:rPr b="0" lang="zh-CN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10. </a:t>
            </a:r>
            <a:r>
              <a:rPr b="0" lang="zh-CN" sz="2100" spc="-1" strike="noStrike">
                <a:solidFill>
                  <a:srgbClr val="000000"/>
                </a:solidFill>
                <a:latin typeface="Times New Roman"/>
              </a:rPr>
              <a:t>销售行政主管</a:t>
            </a:r>
            <a:r>
              <a:rPr b="0" lang="zh-CN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11. </a:t>
            </a:r>
            <a:r>
              <a:rPr b="0" lang="zh-CN" sz="2100" spc="-1" strike="noStrike">
                <a:solidFill>
                  <a:srgbClr val="000000"/>
                </a:solidFill>
                <a:latin typeface="Times New Roman"/>
              </a:rPr>
              <a:t>代理经理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12. </a:t>
            </a:r>
            <a:r>
              <a:rPr b="0" lang="zh-CN" sz="2100" spc="-1" strike="noStrike">
                <a:solidFill>
                  <a:srgbClr val="000000"/>
                </a:solidFill>
                <a:latin typeface="Times New Roman"/>
              </a:rPr>
              <a:t>董事长兼总经理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Text Box 5"/>
          <p:cNvSpPr/>
          <p:nvPr/>
        </p:nvSpPr>
        <p:spPr>
          <a:xfrm>
            <a:off x="4730760" y="1628640"/>
            <a:ext cx="695484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ales Director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ales Manag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. Regional Sales Manager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. Sales Account Manag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. Channel/Distribution Manager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. Channel Supervis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. Sales Engineer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. Sales Assista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. Sales Administration Manager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. Sales Administration Supervisor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1. Acting Manag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2. Chairman of the Board of Directors and General Manag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randomBar dir="vert"/>
  </p:transition>
  <p:timing>
    <p:tnLst>
      <p:par>
        <p:cTn id="883" dur="indefinite" restart="never" nodeType="tmRoot">
          <p:childTnLst>
            <p:seq>
              <p:cTn id="884" dur="indefinite" nodeType="mainSeq">
                <p:childTnLst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9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0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ask II</a:t>
            </a: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  </a:t>
            </a:r>
            <a:r>
              <a:rPr b="0" lang="zh-CN" sz="3600" spc="-1" strike="noStrike">
                <a:solidFill>
                  <a:srgbClr val="006666"/>
                </a:solidFill>
                <a:latin typeface="Arial"/>
              </a:rPr>
              <a:t>请将以下职务翻译成中文。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2495160" y="1628640"/>
            <a:ext cx="576108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1. Plant/Factory Manager       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2. Chief Engineer              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3. Project Manager             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4. Project Engineer             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5. Operations Manager          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6. Operations Supervisor         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7. Production Manager   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8. Workshop Supervisor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9. Production Planning Offic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10. Production supervis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Text Box 5"/>
          <p:cNvSpPr/>
          <p:nvPr/>
        </p:nvSpPr>
        <p:spPr>
          <a:xfrm>
            <a:off x="6527880" y="1484280"/>
            <a:ext cx="3744720" cy="41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工厂经理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厂长    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总工程师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项目经理    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项目工程师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运营经理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6. 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营运主管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7. 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生产经理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8. 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车间主任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9. 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生产计划协调员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10. 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生产主管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randomBar dir="vert"/>
  </p:transition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1991880" y="980640"/>
            <a:ext cx="5327640" cy="4884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1. Technical/Industrial Design Manag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2. Technical/Industrial Design Engine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3. Lab Manager/Engineer         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4. Facility Manager              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5. Engineering/Facility Supervisor  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6. Facility Engineer              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7. Electrical Engineer            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8. Mechanical Engineer           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9. Maintenance Engineer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0. Safety Manager/Supervis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7" name="Text Box 4"/>
          <p:cNvSpPr/>
          <p:nvPr/>
        </p:nvSpPr>
        <p:spPr>
          <a:xfrm>
            <a:off x="7032600" y="907920"/>
            <a:ext cx="3745080" cy="4665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1.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技术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工艺设计经理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2.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技术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工艺设计工程师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3.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实验室负责人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工程师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4.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设备经理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5.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工程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设备主管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6.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设备工程师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7.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电气工程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8.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机械工程师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9.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维修工程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0.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安全经理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主管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randomBar dir="vert"/>
  </p:transition>
  <p:timing>
    <p:tnLst>
      <p:par>
        <p:cTn id="899" dur="indefinite" restart="never" nodeType="tmRoot">
          <p:childTnLst>
            <p:seq>
              <p:cTn id="900" dur="indefinite" nodeType="mainSeq">
                <p:childTnLst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ask III  </a:t>
            </a:r>
            <a:r>
              <a:rPr b="1" lang="zh-CN" sz="3600" spc="-1" strike="noStrike">
                <a:solidFill>
                  <a:srgbClr val="006666"/>
                </a:solidFill>
                <a:latin typeface="Arial"/>
              </a:rPr>
              <a:t>请翻译以下名片。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19" name="图片 2" descr=""/>
          <p:cNvPicPr/>
          <p:nvPr/>
        </p:nvPicPr>
        <p:blipFill>
          <a:blip r:embed="rId1"/>
          <a:stretch/>
        </p:blipFill>
        <p:spPr>
          <a:xfrm>
            <a:off x="1487520" y="2133720"/>
            <a:ext cx="5067360" cy="2324160"/>
          </a:xfrm>
          <a:prstGeom prst="rect">
            <a:avLst/>
          </a:prstGeom>
          <a:ln w="0">
            <a:noFill/>
          </a:ln>
        </p:spPr>
      </p:pic>
      <p:pic>
        <p:nvPicPr>
          <p:cNvPr id="320" name="图片 3" descr=""/>
          <p:cNvPicPr/>
          <p:nvPr/>
        </p:nvPicPr>
        <p:blipFill>
          <a:blip r:embed="rId2"/>
          <a:stretch/>
        </p:blipFill>
        <p:spPr>
          <a:xfrm>
            <a:off x="6672240" y="2205000"/>
            <a:ext cx="5048280" cy="219708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2" name="内容占位符 3" descr=""/>
          <p:cNvPicPr/>
          <p:nvPr/>
        </p:nvPicPr>
        <p:blipFill>
          <a:blip r:embed="rId1"/>
          <a:stretch/>
        </p:blipFill>
        <p:spPr>
          <a:xfrm>
            <a:off x="1127160" y="692280"/>
            <a:ext cx="4997520" cy="2501640"/>
          </a:xfrm>
          <a:prstGeom prst="rect">
            <a:avLst/>
          </a:prstGeom>
          <a:ln w="0">
            <a:noFill/>
          </a:ln>
        </p:spPr>
      </p:pic>
      <p:pic>
        <p:nvPicPr>
          <p:cNvPr id="323" name="图片 4" descr=""/>
          <p:cNvPicPr/>
          <p:nvPr/>
        </p:nvPicPr>
        <p:blipFill>
          <a:blip r:embed="rId2"/>
          <a:stretch/>
        </p:blipFill>
        <p:spPr>
          <a:xfrm>
            <a:off x="6095880" y="692280"/>
            <a:ext cx="5124600" cy="2539800"/>
          </a:xfrm>
          <a:prstGeom prst="rect">
            <a:avLst/>
          </a:prstGeom>
          <a:ln w="0">
            <a:noFill/>
          </a:ln>
        </p:spPr>
      </p:pic>
      <p:pic>
        <p:nvPicPr>
          <p:cNvPr id="324" name="图片 5" descr=""/>
          <p:cNvPicPr/>
          <p:nvPr/>
        </p:nvPicPr>
        <p:blipFill>
          <a:blip r:embed="rId3"/>
          <a:stretch/>
        </p:blipFill>
        <p:spPr>
          <a:xfrm>
            <a:off x="1036800" y="3429000"/>
            <a:ext cx="4991040" cy="257184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6666"/>
                </a:solidFill>
                <a:latin typeface="Arial"/>
              </a:rPr>
              <a:t>参考答案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6" name="图片 2" descr=""/>
          <p:cNvPicPr/>
          <p:nvPr/>
        </p:nvPicPr>
        <p:blipFill>
          <a:blip r:embed="rId1"/>
          <a:stretch/>
        </p:blipFill>
        <p:spPr>
          <a:xfrm>
            <a:off x="1415880" y="1844640"/>
            <a:ext cx="4807080" cy="3035160"/>
          </a:xfrm>
          <a:prstGeom prst="rect">
            <a:avLst/>
          </a:prstGeom>
          <a:ln w="0">
            <a:noFill/>
          </a:ln>
        </p:spPr>
      </p:pic>
      <p:pic>
        <p:nvPicPr>
          <p:cNvPr id="327" name="图片 3" descr=""/>
          <p:cNvPicPr/>
          <p:nvPr/>
        </p:nvPicPr>
        <p:blipFill>
          <a:blip r:embed="rId2"/>
          <a:stretch/>
        </p:blipFill>
        <p:spPr>
          <a:xfrm>
            <a:off x="6384960" y="1917720"/>
            <a:ext cx="4807080" cy="278136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9" name="图片 4" descr=""/>
          <p:cNvPicPr/>
          <p:nvPr/>
        </p:nvPicPr>
        <p:blipFill>
          <a:blip r:embed="rId1"/>
          <a:stretch/>
        </p:blipFill>
        <p:spPr>
          <a:xfrm>
            <a:off x="1343160" y="476280"/>
            <a:ext cx="5335560" cy="5460840"/>
          </a:xfrm>
          <a:prstGeom prst="rect">
            <a:avLst/>
          </a:prstGeom>
          <a:ln w="0">
            <a:noFill/>
          </a:ln>
        </p:spPr>
      </p:pic>
      <p:pic>
        <p:nvPicPr>
          <p:cNvPr id="330" name="图片 5" descr=""/>
          <p:cNvPicPr/>
          <p:nvPr/>
        </p:nvPicPr>
        <p:blipFill>
          <a:blip r:embed="rId2"/>
          <a:stretch/>
        </p:blipFill>
        <p:spPr>
          <a:xfrm>
            <a:off x="6743880" y="1844640"/>
            <a:ext cx="4825800" cy="293364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PART</a:t>
            </a: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SEVEN</a:t>
            </a: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6666"/>
                </a:solidFill>
                <a:latin typeface="Arial"/>
              </a:rPr>
              <a:t>学习参考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1827360" y="1827360"/>
            <a:ext cx="975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名片网：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ttp://www.mingpian.com/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中国名片网：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ttp://www.mingpian.org/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中国在线翻译网：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ttp://www.chinafanyi.com/b_c_dict/b_t_techtitle.ht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ART</a:t>
            </a: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IGHT</a:t>
            </a: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zh-CN" sz="3600" spc="-1" strike="noStrike">
                <a:solidFill>
                  <a:srgbClr val="006666"/>
                </a:solidFill>
                <a:latin typeface="Arial"/>
              </a:rPr>
              <a:t>单元预告与实训任务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1784160" y="1827360"/>
            <a:ext cx="9483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.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下一单元我们将讲述公示语的翻译，涉及到国内外各种类型的常见公示语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.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留意你身边的公示语，搜集不少于十条有中英文对照的公示语，比较其中文和译文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1938240" y="1557360"/>
            <a:ext cx="970128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名片可以从不同角度来分类。从制作材料来看，名片可以分为纸质名片、塑料名片、电子名片等；从印刷面数来看，可以分为单面印刷名片和双面印刷名片；从名片色彩来看，可以分为单色名片、双色名片和彩色名片。从交际功能来看，名片可以分为以下三种：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1. 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商业名片：它是公司或企业进行业务活动时使用的名片，其使用大多以赢利为目的。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2. 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公用名片：它是政府或社会团体在对外交往中所使用的名片，其使用不是以赢利为目的。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3. 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个人名片：它是朋友间交流感情，结识新朋友所使用的名片。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Text Box 4"/>
          <p:cNvSpPr/>
          <p:nvPr/>
        </p:nvSpPr>
        <p:spPr>
          <a:xfrm>
            <a:off x="2686680" y="76500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名片的分类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/>
          </p:nvPr>
        </p:nvSpPr>
        <p:spPr>
          <a:xfrm>
            <a:off x="3503160" y="3500280"/>
            <a:ext cx="5077080" cy="20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6666"/>
                </a:solidFill>
                <a:latin typeface="Verdana"/>
              </a:rPr>
              <a:t>对外经济贸易大学出版社市场营销部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6666"/>
                </a:solidFill>
                <a:latin typeface="Verdana"/>
              </a:rPr>
              <a:t>地址：北京市朝阳区惠新东街</a:t>
            </a:r>
            <a:r>
              <a:rPr b="1" lang="en-US" sz="2200" spc="-1" strike="noStrike">
                <a:solidFill>
                  <a:srgbClr val="006666"/>
                </a:solidFill>
                <a:latin typeface="Verdana"/>
              </a:rPr>
              <a:t>10</a:t>
            </a:r>
            <a:r>
              <a:rPr b="1" lang="zh-CN" sz="2200" spc="-1" strike="noStrike">
                <a:solidFill>
                  <a:srgbClr val="006666"/>
                </a:solidFill>
                <a:latin typeface="Verdana"/>
              </a:rPr>
              <a:t>号   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6666"/>
                </a:solidFill>
                <a:latin typeface="Verdana"/>
              </a:rPr>
              <a:t>电话：</a:t>
            </a:r>
            <a:r>
              <a:rPr b="1" lang="en-US" sz="2200" spc="-1" strike="noStrike">
                <a:solidFill>
                  <a:srgbClr val="006666"/>
                </a:solidFill>
                <a:latin typeface="Verdana"/>
              </a:rPr>
              <a:t>010-64492342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6666"/>
                </a:solidFill>
                <a:latin typeface="Verdana"/>
              </a:rPr>
              <a:t>http://www.uibep.co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6666"/>
                </a:solidFill>
                <a:latin typeface="Verdana"/>
              </a:rPr>
              <a:t>E-mail: uibep@126.co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Rectangle 10"/>
          <p:cNvSpPr/>
          <p:nvPr/>
        </p:nvSpPr>
        <p:spPr>
          <a:xfrm>
            <a:off x="4727520" y="2043000"/>
            <a:ext cx="2737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6666"/>
                </a:solidFill>
                <a:latin typeface="Arial"/>
                <a:ea typeface="华文琥珀"/>
              </a:rPr>
              <a:t>谢谢！</a:t>
            </a:r>
            <a:endParaRPr b="0" lang="en-US" sz="6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827360" y="301320"/>
            <a:ext cx="97502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6666"/>
                </a:solidFill>
                <a:latin typeface="Arial"/>
              </a:rPr>
              <a:t>现代名片的特点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990800" y="2930040"/>
            <a:ext cx="9569520" cy="20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1. 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语言多样化。中外文对照，尤其是中英对照名片流行于世。随着对外交往的增多以及跨国公司的兴起，做一份中外文对照的名片成了越来越迫切的要求。英语作为一种国际语言，在传递信息方面具有得天独厚的优势，因此，中英文对照的名片最为常见。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Text Box 6"/>
          <p:cNvSpPr/>
          <p:nvPr/>
        </p:nvSpPr>
        <p:spPr>
          <a:xfrm>
            <a:off x="2063880" y="1773360"/>
            <a:ext cx="9432720" cy="459720"/>
          </a:xfrm>
          <a:prstGeom prst="rect">
            <a:avLst/>
          </a:prstGeom>
          <a:solidFill>
            <a:srgbClr val="99cccc"/>
          </a:solidFill>
          <a:ln w="93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随着时代的变化，名片也在不断发展变化。现在的名片设计更精美，信息更全面，功能更多样化。总之，现代名片有如下特点：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randomBar dir="ver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1787040" y="1773360"/>
            <a:ext cx="989172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内容丰富化。如今的名片可以包括很多内容。比如说身兼数职的人可以将若干职务都印在名片上；有些名片上还附有公司的标志、口号与广告词；联络方式也趋向于多渠道，除了传统的地址和联系电话，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还有手机、电子邮箱、网页地址、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QQ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号码、微信号等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交际功能明确化。当今的名片拥有明确的交际功能。名片反映了其所有者几乎全部的社会职能和主要的社会关系。因此，名片的交际功能越发凸显出来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randomBar dir="vert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5T07:35:15Z</dcterms:created>
  <dc:creator>微软用户</dc:creator>
  <dc:description/>
  <dc:language>en-US</dc:language>
  <cp:lastModifiedBy>ZJR</cp:lastModifiedBy>
  <dcterms:modified xsi:type="dcterms:W3CDTF">2024-08-19T10:19:13Z</dcterms:modified>
  <cp:revision>125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33DF871FB95D4DD298AC1B01BA0FEC9F_12</vt:lpwstr>
  </property>
  <property fmtid="{D5CDD505-2E9C-101B-9397-08002B2CF9AE}" pid="3" name="KSOProductBuildVer">
    <vt:lpwstr>2052-12.1.0.17827</vt:lpwstr>
  </property>
</Properties>
</file>